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5377-A309-44B3-8340-C15304874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760E-5967-47C7-B073-998A844A8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EF95-4A63-4949-B610-7F179BECF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2A49-0EA1-47DB-BBA0-2789E7E9A3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1CFF-276F-4D77-860E-A242DD2914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127E-2A5C-4E4A-8F85-6E8102180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75DD-B077-4D30-8502-029C5C4E2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78AD-899C-4E6B-998B-6144DDF0F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0818-77EA-4F5E-A119-8CFB86531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30B0-7B77-484C-8678-FC2A078A8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BA0D-AA89-4D38-BF80-9A09D6013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047D-C940-4FA0-8499-F65FFAF7C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3AE6-B628-43BB-955F-4FEA0C1F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5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5.png"/><Relationship Id="rId2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>
            <a:hlinkClick r:id="" action="ppaction://hlinkshowjump?jump=nextslide"/>
          </p:cNvPr>
          <p:cNvSpPr/>
          <p:nvPr/>
        </p:nvSpPr>
        <p:spPr>
          <a:xfrm>
            <a:off x="77724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rcRect l="0" t="7449" r="6541" b="4705"/>
          <a:stretch/>
        </p:blipFill>
        <p:spPr>
          <a:xfrm>
            <a:off x="457200" y="2590920"/>
            <a:ext cx="8229600" cy="42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1" name=""/>
          <p:cNvSpPr/>
          <p:nvPr/>
        </p:nvSpPr>
        <p:spPr>
          <a:xfrm>
            <a:off x="457200" y="790560"/>
            <a:ext cx="8229600" cy="1679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whether you have mastered the learning objectives for this transportation less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he best answer to the following questions or enter your answer in the spac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your answers by clicking on the next page arrow symb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2819520"/>
            <a:ext cx="5486400" cy="10674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:  BEFORE YOU BEGIN, YOU MUST CLICK ON  THE POWERPOINT SLIDE SHOW SYMBOL AT THE BOTTOM LEFT CORNER OF YOUR COMPUTER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001000" y="3581280"/>
            <a:ext cx="457200" cy="457200"/>
            <a:chOff x="8001000" y="3581280"/>
            <a:chExt cx="457200" cy="457200"/>
          </a:xfrm>
        </p:grpSpPr>
        <p:grpSp>
          <p:nvGrpSpPr>
            <p:cNvPr id="45" name=""/>
            <p:cNvGrpSpPr/>
            <p:nvPr/>
          </p:nvGrpSpPr>
          <p:grpSpPr>
            <a:xfrm>
              <a:off x="8001000" y="3581280"/>
              <a:ext cx="457200" cy="457200"/>
              <a:chOff x="8001000" y="3581280"/>
              <a:chExt cx="457200" cy="457200"/>
            </a:xfrm>
          </p:grpSpPr>
          <p:sp>
            <p:nvSpPr>
              <p:cNvPr id="46" name=""/>
              <p:cNvSpPr/>
              <p:nvPr/>
            </p:nvSpPr>
            <p:spPr>
              <a:xfrm>
                <a:off x="8229600" y="388584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77320" y="403848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01000" y="3581280"/>
                <a:ext cx="4572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8001000" y="358128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80200" y="3692160"/>
              <a:ext cx="266760" cy="55800"/>
            </a:xfrm>
            <a:custGeom>
              <a:avLst/>
              <a:gdLst/>
              <a:ahLst/>
              <a:rect l="l" t="t" r="r" b="b"/>
              <a:pathLst>
                <a:path w="168" h="35">
                  <a:moveTo>
                    <a:pt x="8" y="33"/>
                  </a:moveTo>
                  <a:cubicBezTo>
                    <a:pt x="60" y="0"/>
                    <a:pt x="0" y="29"/>
                    <a:pt x="51" y="33"/>
                  </a:cubicBezTo>
                  <a:cubicBezTo>
                    <a:pt x="71" y="35"/>
                    <a:pt x="90" y="28"/>
                    <a:pt x="110" y="26"/>
                  </a:cubicBezTo>
                  <a:cubicBezTo>
                    <a:pt x="135" y="18"/>
                    <a:pt x="145" y="21"/>
                    <a:pt x="168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64008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57200" y="2054160"/>
            <a:ext cx="57913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DRP is manned by a movement regulating team, a movement control team, or 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RP personnel divert divers and cargo to an alternate dest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RPs relocate tracked combat vehicles in support of a heavy maneuver fo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DRP is established near a boundary or along a main supply route (MS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247880" y="6102360"/>
            <a:ext cx="1284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eck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6248520" y="1828800"/>
          <a:ext cx="2057400" cy="40381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5" name=""/>
          <p:cNvSpPr/>
          <p:nvPr/>
        </p:nvSpPr>
        <p:spPr>
          <a:xfrm flipH="1">
            <a:off x="533160" y="289548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533160" y="388620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533160" y="48769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57200" y="1035000"/>
            <a:ext cx="81532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Decide whether the following statements about a first destination report point (FDRP) are TRUE or FAL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0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0"/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0"/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657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" y="1978200"/>
            <a:ext cx="56386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DRP is manned by a movement regulating team, a movement control team, or 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RP personnel divert divers and cargo to an alternate dest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RPs relocate tracked combat vehicles in support of a heavy maneuver fo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DRP is established near a boundary or along a main supply route (MS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609120" y="289548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609120" y="388620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609120" y="495288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5" name=""/>
          <p:cNvGraphicFramePr/>
          <p:nvPr/>
        </p:nvGraphicFramePr>
        <p:xfrm>
          <a:off x="6324480" y="1828800"/>
          <a:ext cx="1752840" cy="438156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</a:tbl>
          </a:graphicData>
        </a:graphic>
      </p:graphicFrame>
      <p:sp>
        <p:nvSpPr>
          <p:cNvPr id="117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09480" y="62485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B   Slide #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57200" y="1035000"/>
            <a:ext cx="82296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Decide whether the following statements about a first destination report            point (FDRP) are TRUE or FAL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12408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ANY SLIDES TO ENSURE THAT YOU UNDERSTA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 support capabilities of the modular transportation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considerations for employing transportation modes to suppor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57200" y="380880"/>
            <a:ext cx="8534520" cy="785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SUCCESSFULLY COMPL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CHECKS ON LEARNING FOR THE TRANSPORTATION LESS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53080" y="6248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10991" y="17806"/>
                </a:lnTo>
                <a:lnTo>
                  <a:pt x="10991" y="3794"/>
                </a:lnTo>
                <a:close/>
              </a:path>
              <a:path fill="darken" w="35994" h="21600">
                <a:moveTo>
                  <a:pt x="23341" y="3794"/>
                </a:moveTo>
                <a:lnTo>
                  <a:pt x="23341" y="17806"/>
                </a:lnTo>
                <a:lnTo>
                  <a:pt x="25004" y="17806"/>
                </a:lnTo>
                <a:lnTo>
                  <a:pt x="2500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1"/>
          <a:srcRect l="0" t="7449" r="6541" b="4705"/>
          <a:stretch/>
        </p:blipFill>
        <p:spPr>
          <a:xfrm>
            <a:off x="4495680" y="1600200"/>
            <a:ext cx="4496040" cy="4114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84" name=""/>
          <p:cNvSpPr/>
          <p:nvPr/>
        </p:nvSpPr>
        <p:spPr>
          <a:xfrm>
            <a:off x="457200" y="4800600"/>
            <a:ext cx="3962520" cy="83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CONTINUE ON TO THE NEXT LESSON OF YOUR SUPPORT OPERTIONS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4419720"/>
            <a:ext cx="807732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following levels of transportation focuses on supporting the commander’s intent by providing the right support, at the right place, and in the right t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981080"/>
            <a:ext cx="80769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ti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65760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Select the three elements that make up a transportation system from the list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ck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l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rac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7724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6095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6765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ow time for selections to app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905120"/>
            <a:ext cx="8001000" cy="113040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C. Tactical le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FM 4-0, Chapter 4                            Slide #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148280"/>
            <a:ext cx="7924680" cy="173988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Movem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Mod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 Terminal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B   FM 4.01.11, Page 1-1                        Slide #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6324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990720"/>
            <a:ext cx="8077320" cy="75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following levels of transportation focuses on supporting the commander’s intent, providing the right support, at the right place, and in the right tim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200400"/>
            <a:ext cx="8001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three elements that make up a transportation system from the list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90720"/>
            <a:ext cx="807696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Which company in the brigade support battalion (BSB) HBCT provides transportation support for distribution of supplies to the forward support companies (FSC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6248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eck your ans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60880" y="263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06400" y="2133720"/>
            <a:ext cx="7391520" cy="2895480"/>
            <a:chOff x="806400" y="2133720"/>
            <a:chExt cx="7391520" cy="2895480"/>
          </a:xfrm>
        </p:grpSpPr>
        <p:sp>
          <p:nvSpPr>
            <p:cNvPr id="74" name=""/>
            <p:cNvSpPr/>
            <p:nvPr/>
          </p:nvSpPr>
          <p:spPr>
            <a:xfrm>
              <a:off x="806400" y="2133720"/>
              <a:ext cx="7391520" cy="289548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23662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1143000" y="2577960"/>
            <a:ext cx="6781680" cy="1764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577960"/>
                      <a:ext cx="6781680" cy="176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2165400" y="4063680"/>
              <a:ext cx="172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ld Mainte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05720" y="418752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59280" y="3555000"/>
              <a:ext cx="685800" cy="49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40520" y="3555000"/>
              <a:ext cx="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9280" y="3800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1920" y="367704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92800" y="367704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82600" y="4168440"/>
              <a:ext cx="99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2719080"/>
              <a:ext cx="1066680" cy="35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2520" y="2719080"/>
              <a:ext cx="1143000" cy="35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95880" y="3072240"/>
              <a:ext cx="144792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31428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467480" y="3142800"/>
              <a:ext cx="0" cy="211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6324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6324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A     Slide # 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066680"/>
            <a:ext cx="82296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Which company in the brigade support battalion (BSB) HBCT provides transportation support for distribution of supplies to the forward support companies (FSC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181480"/>
            <a:ext cx="7315200" cy="105984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Distribution Compan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The distribution company has a transportation platoon, a supply platoon, and a fuel/water plat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06400" y="2133720"/>
            <a:ext cx="7391520" cy="2895480"/>
            <a:chOff x="806400" y="2133720"/>
            <a:chExt cx="7391520" cy="2895480"/>
          </a:xfrm>
        </p:grpSpPr>
        <p:sp>
          <p:nvSpPr>
            <p:cNvPr id="98" name=""/>
            <p:cNvSpPr/>
            <p:nvPr/>
          </p:nvSpPr>
          <p:spPr>
            <a:xfrm>
              <a:off x="806400" y="2133720"/>
              <a:ext cx="7391520" cy="289548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2880" y="23662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1143000" y="2577960"/>
            <a:ext cx="6781680" cy="1764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577960"/>
                      <a:ext cx="6781680" cy="176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165400" y="4063680"/>
              <a:ext cx="172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ld Mainte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05720" y="418752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59280" y="3555000"/>
              <a:ext cx="685800" cy="49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0520" y="3555000"/>
              <a:ext cx="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59280" y="3800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11920" y="367704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2800" y="367704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2600" y="4168440"/>
              <a:ext cx="99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2520" y="2719080"/>
              <a:ext cx="1066680" cy="35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2520" y="2719080"/>
              <a:ext cx="1143000" cy="35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5880" y="3072240"/>
              <a:ext cx="144792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9920" y="31428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467480" y="3142800"/>
              <a:ext cx="0" cy="211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962520" y="3352680"/>
            <a:ext cx="1295280" cy="144792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066680"/>
            <a:ext cx="8229600" cy="163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principal staff officer for external logistics support to the heavy brigade combat team (HBCT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perations Officer (S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Support Company (FSC) Com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429000"/>
            <a:ext cx="8153280" cy="1914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ovement control element coordinates/monitors all transportation movements for the BS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Control Batta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 Transportation Manageme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Control Team (M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stination Report Point (FD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657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743200"/>
            <a:ext cx="8153280" cy="36828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C.  Support Operations Officer (SPO)               ELO B   Slide #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410080"/>
            <a:ext cx="8153280" cy="78552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 B.  SPO Transportation Management Cell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B    Slides # 16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6415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1523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ow time for selections to app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160" y="303228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tai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2819520"/>
            <a:ext cx="14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633760" y="3477240"/>
            <a:ext cx="331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4462200" y="3349440"/>
            <a:ext cx="405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5013360"/>
            <a:ext cx="1122120" cy="6573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26240" y="5245200"/>
            <a:ext cx="645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59360" y="2056680"/>
            <a:ext cx="762120" cy="7635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1481400" y="2896200"/>
            <a:ext cx="4888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7520" y="2351160"/>
            <a:ext cx="6480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92560" y="3619440"/>
            <a:ext cx="4669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171200">
            <a:off x="7159320" y="3330360"/>
            <a:ext cx="1482840" cy="13460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772400" y="3540240"/>
            <a:ext cx="593640" cy="579240"/>
            <a:chOff x="7772400" y="3540240"/>
            <a:chExt cx="593640" cy="579240"/>
          </a:xfrm>
        </p:grpSpPr>
        <p:sp>
          <p:nvSpPr>
            <p:cNvPr id="138" name=""/>
            <p:cNvSpPr/>
            <p:nvPr/>
          </p:nvSpPr>
          <p:spPr>
            <a:xfrm>
              <a:off x="7772400" y="3797280"/>
              <a:ext cx="593640" cy="322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88240" y="3878280"/>
              <a:ext cx="5619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7560" y="3540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rot="1401600">
            <a:off x="2841480" y="4005000"/>
            <a:ext cx="1017720" cy="12888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27280" y="4517280"/>
            <a:ext cx="968400" cy="7239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4556160"/>
            <a:ext cx="304560" cy="1371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37720" y="3867840"/>
            <a:ext cx="728640" cy="704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35200" y="5842080"/>
            <a:ext cx="4669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74800" y="4518000"/>
            <a:ext cx="852480" cy="976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19720" y="5089680"/>
            <a:ext cx="426960" cy="396360"/>
            <a:chOff x="4419720" y="5089680"/>
            <a:chExt cx="426960" cy="396360"/>
          </a:xfrm>
        </p:grpSpPr>
        <p:sp>
          <p:nvSpPr>
            <p:cNvPr id="148" name=""/>
            <p:cNvSpPr/>
            <p:nvPr/>
          </p:nvSpPr>
          <p:spPr>
            <a:xfrm>
              <a:off x="4524480" y="508968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19720" y="5236920"/>
              <a:ext cx="426960" cy="249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05400" y="52862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V="1">
            <a:off x="7464600" y="2651040"/>
            <a:ext cx="612720" cy="1216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44360" y="4039920"/>
            <a:ext cx="995760" cy="1156320"/>
          </a:xfrm>
          <a:prstGeom prst="line">
            <a:avLst/>
          </a:prstGeom>
          <a:ln w="507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832560" y="3991320"/>
            <a:ext cx="3555360" cy="41364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08600" y="5013360"/>
            <a:ext cx="591840" cy="503280"/>
            <a:chOff x="5808600" y="5013360"/>
            <a:chExt cx="591840" cy="503280"/>
          </a:xfrm>
        </p:grpSpPr>
        <p:sp>
          <p:nvSpPr>
            <p:cNvPr id="155" name=""/>
            <p:cNvSpPr/>
            <p:nvPr/>
          </p:nvSpPr>
          <p:spPr>
            <a:xfrm>
              <a:off x="5808600" y="5211720"/>
              <a:ext cx="59184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2520" y="52880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70600" y="5013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001000" y="2117880"/>
            <a:ext cx="591840" cy="502560"/>
            <a:chOff x="8001000" y="2117880"/>
            <a:chExt cx="591840" cy="502560"/>
          </a:xfrm>
        </p:grpSpPr>
        <p:sp>
          <p:nvSpPr>
            <p:cNvPr id="159" name=""/>
            <p:cNvSpPr/>
            <p:nvPr/>
          </p:nvSpPr>
          <p:spPr>
            <a:xfrm>
              <a:off x="8001000" y="2315880"/>
              <a:ext cx="591840" cy="304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34920" y="23922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63000" y="2117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141720" y="4052880"/>
            <a:ext cx="591840" cy="503280"/>
            <a:chOff x="3141720" y="4052880"/>
            <a:chExt cx="591840" cy="503280"/>
          </a:xfrm>
        </p:grpSpPr>
        <p:sp>
          <p:nvSpPr>
            <p:cNvPr id="163" name=""/>
            <p:cNvSpPr/>
            <p:nvPr/>
          </p:nvSpPr>
          <p:spPr>
            <a:xfrm>
              <a:off x="3141720" y="4251240"/>
              <a:ext cx="59184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5640" y="43275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3720" y="405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267080" y="3549600"/>
            <a:ext cx="426960" cy="397080"/>
            <a:chOff x="4267080" y="3549600"/>
            <a:chExt cx="426960" cy="397080"/>
          </a:xfrm>
        </p:grpSpPr>
        <p:sp>
          <p:nvSpPr>
            <p:cNvPr id="167" name=""/>
            <p:cNvSpPr/>
            <p:nvPr/>
          </p:nvSpPr>
          <p:spPr>
            <a:xfrm>
              <a:off x="4371840" y="354960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3697200"/>
              <a:ext cx="426960" cy="249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2760" y="3746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239920" y="5241960"/>
            <a:ext cx="426960" cy="396360"/>
            <a:chOff x="2239920" y="5241960"/>
            <a:chExt cx="426960" cy="396360"/>
          </a:xfrm>
        </p:grpSpPr>
        <p:sp>
          <p:nvSpPr>
            <p:cNvPr id="171" name=""/>
            <p:cNvSpPr/>
            <p:nvPr/>
          </p:nvSpPr>
          <p:spPr>
            <a:xfrm>
              <a:off x="2344680" y="524196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39920" y="5389200"/>
              <a:ext cx="426960" cy="249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25600" y="5438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657600" y="5775480"/>
            <a:ext cx="426960" cy="396360"/>
            <a:chOff x="3657600" y="5775480"/>
            <a:chExt cx="426960" cy="396360"/>
          </a:xfrm>
        </p:grpSpPr>
        <p:sp>
          <p:nvSpPr>
            <p:cNvPr id="175" name=""/>
            <p:cNvSpPr/>
            <p:nvPr/>
          </p:nvSpPr>
          <p:spPr>
            <a:xfrm>
              <a:off x="3762360" y="577548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5922720"/>
              <a:ext cx="426960" cy="249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43280" y="5972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73120" y="2543040"/>
            <a:ext cx="5619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7080" y="190512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087640"/>
            <a:ext cx="591840" cy="304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95280" y="2362320"/>
            <a:ext cx="593640" cy="579240"/>
            <a:chOff x="1295280" y="2362320"/>
            <a:chExt cx="593640" cy="579240"/>
          </a:xfrm>
        </p:grpSpPr>
        <p:sp>
          <p:nvSpPr>
            <p:cNvPr id="182" name=""/>
            <p:cNvSpPr/>
            <p:nvPr/>
          </p:nvSpPr>
          <p:spPr>
            <a:xfrm>
              <a:off x="1295280" y="2619360"/>
              <a:ext cx="593640" cy="322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11120" y="2700360"/>
              <a:ext cx="5619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50440" y="23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066680" y="3886200"/>
            <a:ext cx="1523880" cy="228600"/>
            <a:chOff x="1066680" y="3886200"/>
            <a:chExt cx="1523880" cy="22860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1371960" y="3956400"/>
              <a:ext cx="67320" cy="7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1749600" y="3901320"/>
              <a:ext cx="840960" cy="210960"/>
              <a:chOff x="1749600" y="3901320"/>
              <a:chExt cx="840960" cy="210960"/>
            </a:xfrm>
          </p:grpSpPr>
          <p:sp>
            <p:nvSpPr>
              <p:cNvPr id="188" name=""/>
              <p:cNvSpPr/>
              <p:nvPr/>
            </p:nvSpPr>
            <p:spPr>
              <a:xfrm>
                <a:off x="1808640" y="4017600"/>
                <a:ext cx="41868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2257200" y="3916080"/>
                <a:ext cx="40320" cy="115560"/>
                <a:chOff x="2257200" y="3916080"/>
                <a:chExt cx="40320" cy="1155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2262960" y="3916080"/>
                  <a:ext cx="34560" cy="115560"/>
                  <a:chOff x="2262960" y="3916080"/>
                  <a:chExt cx="34560" cy="1155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2263320" y="3939120"/>
                    <a:ext cx="34200" cy="85320"/>
                  </a:xfrm>
                  <a:prstGeom prst="rect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V="1">
                    <a:off x="2262960" y="3916080"/>
                    <a:ext cx="34560" cy="18720"/>
                  </a:xfrm>
                  <a:custGeom>
                    <a:avLst/>
                    <a:gdLst>
                      <a:gd name="textAreaLeft" fmla="*/ 5040 w 34560"/>
                      <a:gd name="textAreaRight" fmla="*/ 29520 w 34560"/>
                      <a:gd name="textAreaTop" fmla="*/ 2520 h 18720"/>
                      <a:gd name="textAreaBottom" fmla="*/ 16200 h 1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01" y="21600"/>
                        </a:lnTo>
                        <a:lnTo>
                          <a:pt x="2699" y="21600"/>
                        </a:lnTo>
                        <a:close/>
                      </a:path>
                    </a:pathLst>
                  </a:cu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268720" y="3916080"/>
                    <a:ext cx="27360" cy="115560"/>
                    <a:chOff x="2268720" y="3916080"/>
                    <a:chExt cx="27360" cy="1155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271240" y="4027680"/>
                      <a:ext cx="2052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275200" y="3926880"/>
                      <a:ext cx="11160" cy="3924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2271960" y="3969360"/>
                      <a:ext cx="17280" cy="5580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275200" y="4006080"/>
                      <a:ext cx="2088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289240" y="3960360"/>
                      <a:ext cx="0" cy="66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flipH="1" flipV="1" rot="10800000">
                      <a:off x="2268720" y="3916080"/>
                      <a:ext cx="23760" cy="15120"/>
                    </a:xfrm>
                    <a:custGeom>
                      <a:avLst/>
                      <a:gdLst>
                        <a:gd name="textAreaLeft" fmla="*/ 4680 w 23760"/>
                        <a:gd name="textAreaRight" fmla="*/ 19080 w 23760"/>
                        <a:gd name="textAreaTop" fmla="*/ 2880 h 15120"/>
                        <a:gd name="textAreaBottom" fmla="*/ 12240 h 15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692" y="21600"/>
                          </a:lnTo>
                          <a:lnTo>
                            <a:pt x="4908" y="2160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271960" y="3927240"/>
                      <a:ext cx="18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"/>
                  <p:cNvSpPr/>
                  <p:nvPr/>
                </p:nvSpPr>
                <p:spPr>
                  <a:xfrm>
                    <a:off x="2268000" y="393696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291760" y="393696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2257200" y="3978000"/>
                  <a:ext cx="4680" cy="464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325600" y="3901320"/>
                <a:ext cx="92160" cy="89640"/>
                <a:chOff x="2325600" y="3901320"/>
                <a:chExt cx="92160" cy="89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325600" y="390132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41800" y="391572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61240" y="393552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390040" y="4018680"/>
                <a:ext cx="93240" cy="4032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13360" y="395712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29920" y="395712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60160" y="3949200"/>
                <a:ext cx="74160" cy="6696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325960" y="3913560"/>
                <a:ext cx="59040" cy="7920"/>
                <a:chOff x="2325960" y="3913560"/>
                <a:chExt cx="59040" cy="79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325960" y="392148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325960" y="391356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781280" y="4052520"/>
                <a:ext cx="4536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49600" y="4029120"/>
                <a:ext cx="5562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36040" y="3937680"/>
                <a:ext cx="23400" cy="75600"/>
              </a:xfrm>
              <a:custGeom>
                <a:avLst/>
                <a:gdLst/>
                <a:ahLst/>
                <a:rect l="l" t="t" r="r" b="b"/>
                <a:pathLst>
                  <a:path w="44" h="148">
                    <a:moveTo>
                      <a:pt x="43" y="0"/>
                    </a:moveTo>
                    <a:lnTo>
                      <a:pt x="43" y="147"/>
                    </a:lnTo>
                    <a:lnTo>
                      <a:pt x="17" y="147"/>
                    </a:lnTo>
                    <a:lnTo>
                      <a:pt x="17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60160" y="3912840"/>
                <a:ext cx="73440" cy="33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11560" y="3968280"/>
                <a:ext cx="31320" cy="4752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53160" y="4014000"/>
                <a:ext cx="249120" cy="24480"/>
              </a:xfrm>
              <a:prstGeom prst="rect">
                <a:avLst/>
              </a:prstGeom>
              <a:solidFill>
                <a:srgbClr val="47474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13360" y="392508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71880" y="4038120"/>
                <a:ext cx="231480" cy="23400"/>
              </a:xfrm>
              <a:custGeom>
                <a:avLst/>
                <a:gdLst/>
                <a:ahLst/>
                <a:rect l="l" t="t" r="r" b="b"/>
                <a:pathLst>
                  <a:path w="434" h="46">
                    <a:moveTo>
                      <a:pt x="433" y="0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433" y="45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309400" y="3918600"/>
                <a:ext cx="9000" cy="2592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16" y="0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16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324160" y="3913920"/>
                <a:ext cx="14760" cy="25920"/>
                <a:chOff x="2324160" y="3913920"/>
                <a:chExt cx="14760" cy="25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324160" y="3925440"/>
                  <a:ext cx="14760" cy="14400"/>
                </a:xfrm>
                <a:prstGeom prst="ellipse">
                  <a:avLst/>
                </a:prstGeom>
                <a:solidFill>
                  <a:srgbClr val="767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328480" y="3913920"/>
                  <a:ext cx="6120" cy="19080"/>
                </a:xfrm>
                <a:prstGeom prst="rect">
                  <a:avLst/>
                </a:prstGeom>
                <a:solidFill>
                  <a:srgbClr val="3165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360880" y="3967920"/>
                <a:ext cx="73440" cy="21960"/>
              </a:xfrm>
              <a:prstGeom prst="rect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61960" y="3915000"/>
                <a:ext cx="28800" cy="3168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53320" y="4013280"/>
                <a:ext cx="36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54400" y="4025880"/>
                <a:ext cx="4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2367360" y="4022640"/>
                <a:ext cx="92160" cy="89640"/>
                <a:chOff x="2367360" y="4022640"/>
                <a:chExt cx="92160" cy="89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367360" y="402264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383560" y="403704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403000" y="405684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174040" y="4014000"/>
                <a:ext cx="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75840" y="4032360"/>
                <a:ext cx="17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2255040" y="4022640"/>
                <a:ext cx="92160" cy="89640"/>
                <a:chOff x="2255040" y="4022640"/>
                <a:chExt cx="92160" cy="896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255040" y="402264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271600" y="403704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90680" y="405684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1812960" y="4019760"/>
                <a:ext cx="92160" cy="89280"/>
                <a:chOff x="1812960" y="4019760"/>
                <a:chExt cx="92160" cy="892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812960" y="401976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829520" y="403380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848600" y="405396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2365200" y="4015440"/>
                <a:ext cx="6840" cy="7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43400" y="4052880"/>
                <a:ext cx="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28200" y="3912840"/>
                <a:ext cx="124920" cy="13680"/>
              </a:xfrm>
              <a:custGeom>
                <a:avLst/>
                <a:gdLst/>
                <a:ahLst/>
                <a:rect l="l" t="t" r="r" b="b"/>
                <a:pathLst>
                  <a:path w="234" h="27">
                    <a:moveTo>
                      <a:pt x="3" y="26"/>
                    </a:moveTo>
                    <a:lnTo>
                      <a:pt x="219" y="26"/>
                    </a:lnTo>
                    <a:lnTo>
                      <a:pt x="233" y="0"/>
                    </a:lnTo>
                    <a:lnTo>
                      <a:pt x="0" y="0"/>
                    </a:lnTo>
                    <a:lnTo>
                      <a:pt x="3" y="26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2549160" y="3963240"/>
                <a:ext cx="22320" cy="21960"/>
                <a:chOff x="2549160" y="3963240"/>
                <a:chExt cx="22320" cy="21960"/>
              </a:xfrm>
            </p:grpSpPr>
            <p:sp>
              <p:nvSpPr>
                <p:cNvPr id="249" name=""/>
                <p:cNvSpPr/>
                <p:nvPr/>
              </p:nvSpPr>
              <p:spPr>
                <a:xfrm flipH="1">
                  <a:off x="2549160" y="3963240"/>
                  <a:ext cx="15840" cy="1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557440" y="3971520"/>
                  <a:ext cx="14040" cy="1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2430720" y="3926160"/>
                <a:ext cx="159840" cy="129960"/>
              </a:xfrm>
              <a:custGeom>
                <a:avLst/>
                <a:gdLst/>
                <a:ahLst/>
                <a:rect l="l" t="t" r="r" b="b"/>
                <a:pathLst>
                  <a:path w="300" h="254">
                    <a:moveTo>
                      <a:pt x="0" y="0"/>
                    </a:moveTo>
                    <a:lnTo>
                      <a:pt x="0" y="18"/>
                    </a:lnTo>
                    <a:lnTo>
                      <a:pt x="0" y="168"/>
                    </a:lnTo>
                    <a:lnTo>
                      <a:pt x="85" y="251"/>
                    </a:lnTo>
                    <a:lnTo>
                      <a:pt x="204" y="253"/>
                    </a:lnTo>
                    <a:lnTo>
                      <a:pt x="299" y="159"/>
                    </a:lnTo>
                    <a:lnTo>
                      <a:pt x="299" y="92"/>
                    </a:lnTo>
                    <a:lnTo>
                      <a:pt x="86" y="90"/>
                    </a:lnTo>
                    <a:lnTo>
                      <a:pt x="86" y="21"/>
                    </a:lnTo>
                    <a:lnTo>
                      <a:pt x="189" y="21"/>
                    </a:lnTo>
                    <a:lnTo>
                      <a:pt x="189" y="87"/>
                    </a:lnTo>
                    <a:lnTo>
                      <a:pt x="203" y="87"/>
                    </a:lnTo>
                    <a:lnTo>
                      <a:pt x="203" y="21"/>
                    </a:lnTo>
                    <a:lnTo>
                      <a:pt x="224" y="21"/>
                    </a:lnTo>
                    <a:lnTo>
                      <a:pt x="281" y="85"/>
                    </a:lnTo>
                    <a:lnTo>
                      <a:pt x="291" y="85"/>
                    </a:lnTo>
                    <a:lnTo>
                      <a:pt x="2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579400" y="3972960"/>
                <a:ext cx="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84440" y="3972960"/>
                <a:ext cx="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64560" y="392616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58080" y="392616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37200" y="3926160"/>
                <a:ext cx="0" cy="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2480" y="4050720"/>
                <a:ext cx="7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96960" y="4057920"/>
                <a:ext cx="16200" cy="2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96960" y="4071240"/>
                <a:ext cx="1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1918800" y="4019760"/>
                <a:ext cx="92160" cy="89280"/>
                <a:chOff x="1918800" y="4019760"/>
                <a:chExt cx="92160" cy="892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918800" y="401976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935360" y="403380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954440" y="405396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037600" y="4013280"/>
                <a:ext cx="169200" cy="58680"/>
                <a:chOff x="2037600" y="4013280"/>
                <a:chExt cx="169200" cy="58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161440" y="4049280"/>
                  <a:ext cx="4536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161440" y="4023720"/>
                  <a:ext cx="45360" cy="1908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37600" y="4016520"/>
                  <a:ext cx="99360" cy="48960"/>
                </a:xfrm>
                <a:custGeom>
                  <a:avLst/>
                  <a:gdLst/>
                  <a:ahLst/>
                  <a:rect l="l" t="t" r="r" b="b"/>
                  <a:pathLst>
                    <a:path w="186" h="96">
                      <a:moveTo>
                        <a:pt x="185" y="0"/>
                      </a:moveTo>
                      <a:lnTo>
                        <a:pt x="0" y="0"/>
                      </a:lnTo>
                      <a:lnTo>
                        <a:pt x="0" y="95"/>
                      </a:lnTo>
                      <a:lnTo>
                        <a:pt x="185" y="95"/>
                      </a:lnTo>
                      <a:lnTo>
                        <a:pt x="185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70000" y="401328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680" y="406404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125440" y="406404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8040" y="40172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53440" y="40172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120040" y="40172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125440" y="40172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100960" y="4029480"/>
                  <a:ext cx="1260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2400120" y="3918240"/>
                <a:ext cx="20520" cy="20880"/>
              </a:xfrm>
              <a:prstGeom prst="ellipse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1129320" y="4028760"/>
              <a:ext cx="49896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97280" y="4061160"/>
              <a:ext cx="5400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036680"/>
              <a:ext cx="641160" cy="226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63840" y="4026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072440" y="4031280"/>
              <a:ext cx="109440" cy="83520"/>
              <a:chOff x="1072440" y="4031280"/>
              <a:chExt cx="109440" cy="83520"/>
            </a:xfrm>
          </p:grpSpPr>
          <p:sp>
            <p:nvSpPr>
              <p:cNvPr id="282" name=""/>
              <p:cNvSpPr/>
              <p:nvPr/>
            </p:nvSpPr>
            <p:spPr>
              <a:xfrm>
                <a:off x="1072440" y="403128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091880" y="404460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14920" y="406296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207440" y="4031280"/>
              <a:ext cx="109440" cy="83520"/>
              <a:chOff x="1207440" y="4031280"/>
              <a:chExt cx="109440" cy="83520"/>
            </a:xfrm>
          </p:grpSpPr>
          <p:sp>
            <p:nvSpPr>
              <p:cNvPr id="286" name=""/>
              <p:cNvSpPr/>
              <p:nvPr/>
            </p:nvSpPr>
            <p:spPr>
              <a:xfrm>
                <a:off x="1207440" y="403128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26880" y="404460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49920" y="406296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402560" y="4024800"/>
              <a:ext cx="201600" cy="55080"/>
              <a:chOff x="1402560" y="4024800"/>
              <a:chExt cx="201600" cy="550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50160" y="4058280"/>
                <a:ext cx="54000" cy="111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50160" y="4034520"/>
                <a:ext cx="54000" cy="180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02560" y="4028040"/>
                <a:ext cx="118080" cy="45360"/>
              </a:xfrm>
              <a:custGeom>
                <a:avLst/>
                <a:gdLst/>
                <a:ahLst/>
                <a:rect l="l" t="t" r="r" b="b"/>
                <a:pathLst>
                  <a:path w="186" h="96">
                    <a:moveTo>
                      <a:pt x="185" y="0"/>
                    </a:moveTo>
                    <a:lnTo>
                      <a:pt x="0" y="0"/>
                    </a:lnTo>
                    <a:lnTo>
                      <a:pt x="0" y="95"/>
                    </a:lnTo>
                    <a:lnTo>
                      <a:pt x="185" y="95"/>
                    </a:lnTo>
                    <a:lnTo>
                      <a:pt x="185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41080" y="402480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03640" y="407232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07320" y="407232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15160" y="402840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21280" y="402840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00840" y="402840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507320" y="402840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78160" y="4039920"/>
                <a:ext cx="1512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081800" y="3903120"/>
              <a:ext cx="633240" cy="119520"/>
              <a:chOff x="1081800" y="3903120"/>
              <a:chExt cx="633240" cy="11952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083960" y="3903120"/>
                <a:ext cx="631080" cy="115560"/>
                <a:chOff x="1083960" y="3903120"/>
                <a:chExt cx="631080" cy="11556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1644120" y="3903120"/>
                  <a:ext cx="70920" cy="113760"/>
                  <a:chOff x="1644120" y="3903120"/>
                  <a:chExt cx="70920" cy="11376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360000">
                    <a:off x="1665000" y="3905280"/>
                    <a:ext cx="47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1644120" y="3922920"/>
                    <a:ext cx="20160" cy="9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>
                    <a:off x="1648080" y="3922920"/>
                    <a:ext cx="1908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360000">
                    <a:off x="1666800" y="3907080"/>
                    <a:ext cx="410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42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425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8" name=""/>
                <p:cNvSpPr/>
                <p:nvPr/>
              </p:nvSpPr>
              <p:spPr>
                <a:xfrm flipV="1">
                  <a:off x="1083960" y="4014360"/>
                  <a:ext cx="574920" cy="3960"/>
                </a:xfrm>
                <a:custGeom>
                  <a:avLst/>
                  <a:gdLst>
                    <a:gd name="textAreaLeft" fmla="*/ 89640 w 574920"/>
                    <a:gd name="textAreaRight" fmla="*/ 485280 w 57492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230120" y="4014000"/>
                  <a:ext cx="41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237680" y="4016160"/>
                  <a:ext cx="41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081800" y="3907080"/>
                <a:ext cx="631080" cy="115560"/>
                <a:chOff x="1081800" y="3907080"/>
                <a:chExt cx="631080" cy="11556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1642680" y="3907080"/>
                  <a:ext cx="70200" cy="114480"/>
                  <a:chOff x="1642680" y="3907080"/>
                  <a:chExt cx="70200" cy="1144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360000">
                    <a:off x="1662840" y="3909240"/>
                    <a:ext cx="47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>
                    <a:off x="1642680" y="3927240"/>
                    <a:ext cx="2016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1645920" y="3927240"/>
                    <a:ext cx="19800" cy="9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360000">
                    <a:off x="1666080" y="3912120"/>
                    <a:ext cx="399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71"/>
                        </a:moveTo>
                        <a:arcTo wR="10800" hR="10800" stAng="-10727201" swAng="522258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71"/>
                        </a:moveTo>
                        <a:arcTo wR="10800" hR="10800" stAng="-10727201" swAng="522258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 flipV="1">
                  <a:off x="1081800" y="4018320"/>
                  <a:ext cx="575640" cy="3960"/>
                </a:xfrm>
                <a:custGeom>
                  <a:avLst/>
                  <a:gdLst>
                    <a:gd name="textAreaLeft" fmla="*/ 89640 w 575640"/>
                    <a:gd name="textAreaRight" fmla="*/ 486000 w 57564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227960" y="4018320"/>
                  <a:ext cx="41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235520" y="4021200"/>
                  <a:ext cx="41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 flipH="1">
                <a:off x="1088280" y="4022640"/>
                <a:ext cx="48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530360" y="4031280"/>
              <a:ext cx="110160" cy="83520"/>
              <a:chOff x="1530360" y="4031280"/>
              <a:chExt cx="110160" cy="83520"/>
            </a:xfrm>
          </p:grpSpPr>
          <p:sp>
            <p:nvSpPr>
              <p:cNvPr id="322" name=""/>
              <p:cNvSpPr/>
              <p:nvPr/>
            </p:nvSpPr>
            <p:spPr>
              <a:xfrm>
                <a:off x="1530360" y="4031280"/>
                <a:ext cx="11016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50160" y="4044600"/>
                <a:ext cx="7272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72840" y="4062960"/>
                <a:ext cx="2484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690920" y="4032720"/>
              <a:ext cx="6768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6" name=""/>
            <p:cNvGraphicFramePr/>
            <p:nvPr/>
          </p:nvGraphicFramePr>
          <p:xfrm>
            <a:off x="1084680" y="3886200"/>
            <a:ext cx="601920" cy="12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84680" y="3886200"/>
                      <a:ext cx="60192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"/>
            <p:cNvGraphicFramePr/>
            <p:nvPr/>
          </p:nvGraphicFramePr>
          <p:xfrm>
            <a:off x="1735920" y="3889800"/>
            <a:ext cx="601920" cy="12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35920" y="3889800"/>
                      <a:ext cx="60192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0" name=""/>
          <p:cNvSpPr/>
          <p:nvPr/>
        </p:nvSpPr>
        <p:spPr>
          <a:xfrm>
            <a:off x="1676520" y="304812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38098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03320" y="336564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94560" y="4280040"/>
            <a:ext cx="6094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24382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0880" y="2514600"/>
            <a:ext cx="228600" cy="152280"/>
            <a:chOff x="380880" y="2514600"/>
            <a:chExt cx="228600" cy="152280"/>
          </a:xfrm>
        </p:grpSpPr>
        <p:sp>
          <p:nvSpPr>
            <p:cNvPr id="336" name=""/>
            <p:cNvSpPr/>
            <p:nvPr/>
          </p:nvSpPr>
          <p:spPr>
            <a:xfrm>
              <a:off x="380880" y="2514600"/>
              <a:ext cx="228600" cy="15228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5360" y="2514600"/>
              <a:ext cx="0" cy="1522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880" y="258804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6600" y="2531520"/>
              <a:ext cx="137160" cy="1184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11120" y="2539800"/>
              <a:ext cx="159840" cy="1015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168560" y="3416400"/>
            <a:ext cx="228600" cy="152280"/>
            <a:chOff x="1168560" y="3416400"/>
            <a:chExt cx="228600" cy="152280"/>
          </a:xfrm>
        </p:grpSpPr>
        <p:sp>
          <p:nvSpPr>
            <p:cNvPr id="342" name=""/>
            <p:cNvSpPr/>
            <p:nvPr/>
          </p:nvSpPr>
          <p:spPr>
            <a:xfrm>
              <a:off x="1168560" y="3416400"/>
              <a:ext cx="228600" cy="15228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83040" y="3416400"/>
              <a:ext cx="0" cy="1522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68560" y="348984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4280" y="3433320"/>
              <a:ext cx="137160" cy="1184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198800" y="3441600"/>
              <a:ext cx="159840" cy="1015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828800" y="3124080"/>
            <a:ext cx="228600" cy="152640"/>
            <a:chOff x="1828800" y="3124080"/>
            <a:chExt cx="228600" cy="152640"/>
          </a:xfrm>
        </p:grpSpPr>
        <p:sp>
          <p:nvSpPr>
            <p:cNvPr id="348" name=""/>
            <p:cNvSpPr/>
            <p:nvPr/>
          </p:nvSpPr>
          <p:spPr>
            <a:xfrm>
              <a:off x="1828800" y="3124080"/>
              <a:ext cx="228600" cy="15264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43280" y="3124080"/>
              <a:ext cx="0" cy="1526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8800" y="319752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4520" y="3141000"/>
              <a:ext cx="137160" cy="1188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859040" y="3149280"/>
              <a:ext cx="159840" cy="1018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772400" y="4343400"/>
            <a:ext cx="228600" cy="152280"/>
            <a:chOff x="7772400" y="4343400"/>
            <a:chExt cx="228600" cy="152280"/>
          </a:xfrm>
        </p:grpSpPr>
        <p:sp>
          <p:nvSpPr>
            <p:cNvPr id="354" name=""/>
            <p:cNvSpPr/>
            <p:nvPr/>
          </p:nvSpPr>
          <p:spPr>
            <a:xfrm>
              <a:off x="7772400" y="4343400"/>
              <a:ext cx="228600" cy="15228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86880" y="4343400"/>
              <a:ext cx="0" cy="1522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72400" y="441684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18120" y="4360320"/>
              <a:ext cx="137160" cy="1184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02640" y="4368600"/>
              <a:ext cx="159840" cy="1015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404120" y="3860640"/>
            <a:ext cx="228600" cy="152640"/>
            <a:chOff x="7404120" y="3860640"/>
            <a:chExt cx="228600" cy="152640"/>
          </a:xfrm>
        </p:grpSpPr>
        <p:sp>
          <p:nvSpPr>
            <p:cNvPr id="360" name=""/>
            <p:cNvSpPr/>
            <p:nvPr/>
          </p:nvSpPr>
          <p:spPr>
            <a:xfrm>
              <a:off x="7404120" y="3860640"/>
              <a:ext cx="228600" cy="15264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18600" y="3860640"/>
              <a:ext cx="0" cy="1526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04120" y="393408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49840" y="3877560"/>
              <a:ext cx="137160" cy="1188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434360" y="3885840"/>
              <a:ext cx="159840" cy="1018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2720" y="261144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42000" y="444024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/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87320" y="322092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87480" y="3970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8480" y="35481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43280" y="29592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05640" y="3733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873920" y="4191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0560" y="2349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05920" y="2590920"/>
            <a:ext cx="45720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53452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52578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530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4419720"/>
            <a:ext cx="45720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692760" y="5384880"/>
            <a:ext cx="381240" cy="321840"/>
            <a:chOff x="6692760" y="5384880"/>
            <a:chExt cx="381240" cy="321840"/>
          </a:xfrm>
        </p:grpSpPr>
        <p:sp>
          <p:nvSpPr>
            <p:cNvPr id="382" name=""/>
            <p:cNvSpPr/>
            <p:nvPr/>
          </p:nvSpPr>
          <p:spPr>
            <a:xfrm>
              <a:off x="6692760" y="5448240"/>
              <a:ext cx="381240" cy="258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801840" y="5540040"/>
              <a:ext cx="163080" cy="103320"/>
              <a:chOff x="6801840" y="5540040"/>
              <a:chExt cx="163080" cy="103320"/>
            </a:xfrm>
          </p:grpSpPr>
          <p:sp>
            <p:nvSpPr>
              <p:cNvPr id="384" name=""/>
              <p:cNvSpPr/>
              <p:nvPr/>
            </p:nvSpPr>
            <p:spPr>
              <a:xfrm>
                <a:off x="6801840" y="5540040"/>
                <a:ext cx="163080" cy="103320"/>
              </a:xfrm>
              <a:prstGeom prst="ellipse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83560" y="5540040"/>
                <a:ext cx="0" cy="1033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01840" y="5589720"/>
                <a:ext cx="163080" cy="7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34240" y="5551560"/>
                <a:ext cx="97920" cy="802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6823080" y="5557320"/>
                <a:ext cx="114120" cy="687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771960" y="5384880"/>
              <a:ext cx="217440" cy="51480"/>
              <a:chOff x="6771960" y="5384880"/>
              <a:chExt cx="217440" cy="51480"/>
            </a:xfrm>
          </p:grpSpPr>
          <p:sp>
            <p:nvSpPr>
              <p:cNvPr id="390" name=""/>
              <p:cNvSpPr/>
              <p:nvPr/>
            </p:nvSpPr>
            <p:spPr>
              <a:xfrm>
                <a:off x="6771960" y="538488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53680" y="538488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35040" y="538488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2514600" y="4572000"/>
            <a:ext cx="380880" cy="321840"/>
            <a:chOff x="2514600" y="4572000"/>
            <a:chExt cx="380880" cy="321840"/>
          </a:xfrm>
        </p:grpSpPr>
        <p:sp>
          <p:nvSpPr>
            <p:cNvPr id="394" name=""/>
            <p:cNvSpPr/>
            <p:nvPr/>
          </p:nvSpPr>
          <p:spPr>
            <a:xfrm>
              <a:off x="2514600" y="4635360"/>
              <a:ext cx="380880" cy="258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2623320" y="4727160"/>
              <a:ext cx="163080" cy="103320"/>
              <a:chOff x="2623320" y="4727160"/>
              <a:chExt cx="163080" cy="103320"/>
            </a:xfrm>
          </p:grpSpPr>
          <p:sp>
            <p:nvSpPr>
              <p:cNvPr id="396" name=""/>
              <p:cNvSpPr/>
              <p:nvPr/>
            </p:nvSpPr>
            <p:spPr>
              <a:xfrm>
                <a:off x="2623320" y="4727160"/>
                <a:ext cx="163080" cy="103320"/>
              </a:xfrm>
              <a:prstGeom prst="ellipse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05040" y="4727160"/>
                <a:ext cx="0" cy="1033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23320" y="4776840"/>
                <a:ext cx="163080" cy="7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655720" y="4738680"/>
                <a:ext cx="97920" cy="802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644560" y="4744440"/>
                <a:ext cx="114120" cy="687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593800" y="4572000"/>
              <a:ext cx="217440" cy="51480"/>
              <a:chOff x="2593800" y="4572000"/>
              <a:chExt cx="217440" cy="51480"/>
            </a:xfrm>
          </p:grpSpPr>
          <p:sp>
            <p:nvSpPr>
              <p:cNvPr id="402" name=""/>
              <p:cNvSpPr/>
              <p:nvPr/>
            </p:nvSpPr>
            <p:spPr>
              <a:xfrm>
                <a:off x="2593800" y="457200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75160" y="457200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756880" y="457200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5" name=""/>
          <p:cNvSpPr/>
          <p:nvPr/>
        </p:nvSpPr>
        <p:spPr>
          <a:xfrm>
            <a:off x="2038320" y="19051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44560" y="2213640"/>
            <a:ext cx="519120" cy="276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3520" y="990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How would you draw arrows to depict throughput distribution of supplies from the corps sustainment b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74360" y="6324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ck your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0160" y="341316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tai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320040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2633760" y="3858120"/>
            <a:ext cx="331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877760" y="3674160"/>
            <a:ext cx="4376880" cy="1842840"/>
            <a:chOff x="1877760" y="3674160"/>
            <a:chExt cx="4376880" cy="1842840"/>
          </a:xfrm>
        </p:grpSpPr>
        <p:grpSp>
          <p:nvGrpSpPr>
            <p:cNvPr id="415" name=""/>
            <p:cNvGrpSpPr/>
            <p:nvPr/>
          </p:nvGrpSpPr>
          <p:grpSpPr>
            <a:xfrm>
              <a:off x="1877760" y="3682440"/>
              <a:ext cx="4362120" cy="1834560"/>
              <a:chOff x="1877760" y="3682440"/>
              <a:chExt cx="4362120" cy="1834560"/>
            </a:xfrm>
          </p:grpSpPr>
          <p:sp>
            <p:nvSpPr>
              <p:cNvPr id="416" name=""/>
              <p:cNvSpPr/>
              <p:nvPr/>
            </p:nvSpPr>
            <p:spPr>
              <a:xfrm rot="21507600">
                <a:off x="1900080" y="3739680"/>
                <a:ext cx="4317480" cy="1719360"/>
              </a:xfrm>
              <a:custGeom>
                <a:avLst/>
                <a:gdLst/>
                <a:ahLst/>
                <a:rect l="l" t="t" r="r" b="b"/>
                <a:pathLst>
                  <a:path w="1361" h="1127">
                    <a:moveTo>
                      <a:pt x="0" y="29"/>
                    </a:moveTo>
                    <a:lnTo>
                      <a:pt x="45" y="0"/>
                    </a:lnTo>
                    <a:lnTo>
                      <a:pt x="93" y="3"/>
                    </a:lnTo>
                    <a:lnTo>
                      <a:pt x="133" y="6"/>
                    </a:lnTo>
                    <a:lnTo>
                      <a:pt x="182" y="13"/>
                    </a:lnTo>
                    <a:lnTo>
                      <a:pt x="241" y="26"/>
                    </a:lnTo>
                    <a:lnTo>
                      <a:pt x="284" y="41"/>
                    </a:lnTo>
                    <a:lnTo>
                      <a:pt x="348" y="60"/>
                    </a:lnTo>
                    <a:lnTo>
                      <a:pt x="411" y="81"/>
                    </a:lnTo>
                    <a:lnTo>
                      <a:pt x="471" y="104"/>
                    </a:lnTo>
                    <a:lnTo>
                      <a:pt x="544" y="136"/>
                    </a:lnTo>
                    <a:lnTo>
                      <a:pt x="597" y="162"/>
                    </a:lnTo>
                    <a:lnTo>
                      <a:pt x="667" y="203"/>
                    </a:lnTo>
                    <a:lnTo>
                      <a:pt x="745" y="248"/>
                    </a:lnTo>
                    <a:lnTo>
                      <a:pt x="819" y="294"/>
                    </a:lnTo>
                    <a:lnTo>
                      <a:pt x="874" y="332"/>
                    </a:lnTo>
                    <a:lnTo>
                      <a:pt x="943" y="390"/>
                    </a:lnTo>
                    <a:lnTo>
                      <a:pt x="997" y="444"/>
                    </a:lnTo>
                    <a:lnTo>
                      <a:pt x="1051" y="500"/>
                    </a:lnTo>
                    <a:lnTo>
                      <a:pt x="1103" y="563"/>
                    </a:lnTo>
                    <a:lnTo>
                      <a:pt x="1129" y="602"/>
                    </a:lnTo>
                    <a:lnTo>
                      <a:pt x="1159" y="651"/>
                    </a:lnTo>
                    <a:lnTo>
                      <a:pt x="1179" y="690"/>
                    </a:lnTo>
                    <a:lnTo>
                      <a:pt x="1197" y="729"/>
                    </a:lnTo>
                    <a:lnTo>
                      <a:pt x="1209" y="761"/>
                    </a:lnTo>
                    <a:lnTo>
                      <a:pt x="1361" y="665"/>
                    </a:lnTo>
                    <a:lnTo>
                      <a:pt x="1345" y="725"/>
                    </a:lnTo>
                    <a:lnTo>
                      <a:pt x="1330" y="799"/>
                    </a:lnTo>
                    <a:lnTo>
                      <a:pt x="1315" y="875"/>
                    </a:lnTo>
                    <a:lnTo>
                      <a:pt x="1311" y="957"/>
                    </a:lnTo>
                    <a:lnTo>
                      <a:pt x="1314" y="1015"/>
                    </a:lnTo>
                    <a:lnTo>
                      <a:pt x="1338" y="1107"/>
                    </a:lnTo>
                    <a:lnTo>
                      <a:pt x="1304" y="1127"/>
                    </a:lnTo>
                    <a:lnTo>
                      <a:pt x="1243" y="1079"/>
                    </a:lnTo>
                    <a:lnTo>
                      <a:pt x="1177" y="1031"/>
                    </a:lnTo>
                    <a:lnTo>
                      <a:pt x="1100" y="990"/>
                    </a:lnTo>
                    <a:lnTo>
                      <a:pt x="1032" y="960"/>
                    </a:lnTo>
                    <a:lnTo>
                      <a:pt x="990" y="943"/>
                    </a:lnTo>
                    <a:lnTo>
                      <a:pt x="933" y="934"/>
                    </a:lnTo>
                    <a:lnTo>
                      <a:pt x="1063" y="852"/>
                    </a:lnTo>
                    <a:lnTo>
                      <a:pt x="1031" y="784"/>
                    </a:lnTo>
                    <a:lnTo>
                      <a:pt x="1000" y="727"/>
                    </a:lnTo>
                    <a:lnTo>
                      <a:pt x="955" y="664"/>
                    </a:lnTo>
                    <a:lnTo>
                      <a:pt x="908" y="603"/>
                    </a:lnTo>
                    <a:lnTo>
                      <a:pt x="850" y="537"/>
                    </a:lnTo>
                    <a:lnTo>
                      <a:pt x="795" y="480"/>
                    </a:lnTo>
                    <a:lnTo>
                      <a:pt x="713" y="402"/>
                    </a:lnTo>
                    <a:lnTo>
                      <a:pt x="641" y="341"/>
                    </a:lnTo>
                    <a:lnTo>
                      <a:pt x="573" y="290"/>
                    </a:lnTo>
                    <a:lnTo>
                      <a:pt x="497" y="239"/>
                    </a:lnTo>
                    <a:lnTo>
                      <a:pt x="460" y="216"/>
                    </a:lnTo>
                    <a:lnTo>
                      <a:pt x="427" y="193"/>
                    </a:lnTo>
                    <a:lnTo>
                      <a:pt x="396" y="175"/>
                    </a:lnTo>
                    <a:lnTo>
                      <a:pt x="366" y="159"/>
                    </a:lnTo>
                    <a:lnTo>
                      <a:pt x="310" y="128"/>
                    </a:lnTo>
                    <a:lnTo>
                      <a:pt x="269" y="109"/>
                    </a:lnTo>
                    <a:lnTo>
                      <a:pt x="237" y="96"/>
                    </a:lnTo>
                    <a:lnTo>
                      <a:pt x="204" y="82"/>
                    </a:lnTo>
                    <a:lnTo>
                      <a:pt x="170" y="71"/>
                    </a:lnTo>
                    <a:lnTo>
                      <a:pt x="143" y="61"/>
                    </a:lnTo>
                    <a:lnTo>
                      <a:pt x="109" y="50"/>
                    </a:lnTo>
                    <a:lnTo>
                      <a:pt x="72" y="42"/>
                    </a:lnTo>
                    <a:lnTo>
                      <a:pt x="36" y="3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1507600">
                <a:off x="1900080" y="3739680"/>
                <a:ext cx="4317480" cy="1719360"/>
              </a:xfrm>
              <a:custGeom>
                <a:avLst/>
                <a:gdLst/>
                <a:ahLst/>
                <a:rect l="l" t="t" r="r" b="b"/>
                <a:pathLst>
                  <a:path w="1361" h="1127">
                    <a:moveTo>
                      <a:pt x="0" y="29"/>
                    </a:moveTo>
                    <a:lnTo>
                      <a:pt x="45" y="0"/>
                    </a:lnTo>
                    <a:lnTo>
                      <a:pt x="93" y="3"/>
                    </a:lnTo>
                    <a:lnTo>
                      <a:pt x="133" y="6"/>
                    </a:lnTo>
                    <a:lnTo>
                      <a:pt x="182" y="13"/>
                    </a:lnTo>
                    <a:lnTo>
                      <a:pt x="241" y="26"/>
                    </a:lnTo>
                    <a:lnTo>
                      <a:pt x="284" y="41"/>
                    </a:lnTo>
                    <a:lnTo>
                      <a:pt x="348" y="60"/>
                    </a:lnTo>
                    <a:lnTo>
                      <a:pt x="411" y="81"/>
                    </a:lnTo>
                    <a:lnTo>
                      <a:pt x="471" y="104"/>
                    </a:lnTo>
                    <a:lnTo>
                      <a:pt x="544" y="136"/>
                    </a:lnTo>
                    <a:lnTo>
                      <a:pt x="597" y="162"/>
                    </a:lnTo>
                    <a:lnTo>
                      <a:pt x="667" y="203"/>
                    </a:lnTo>
                    <a:lnTo>
                      <a:pt x="745" y="248"/>
                    </a:lnTo>
                    <a:lnTo>
                      <a:pt x="819" y="294"/>
                    </a:lnTo>
                    <a:lnTo>
                      <a:pt x="874" y="332"/>
                    </a:lnTo>
                    <a:lnTo>
                      <a:pt x="943" y="390"/>
                    </a:lnTo>
                    <a:lnTo>
                      <a:pt x="997" y="444"/>
                    </a:lnTo>
                    <a:lnTo>
                      <a:pt x="1051" y="500"/>
                    </a:lnTo>
                    <a:lnTo>
                      <a:pt x="1103" y="563"/>
                    </a:lnTo>
                    <a:lnTo>
                      <a:pt x="1129" y="602"/>
                    </a:lnTo>
                    <a:lnTo>
                      <a:pt x="1159" y="651"/>
                    </a:lnTo>
                    <a:lnTo>
                      <a:pt x="1179" y="690"/>
                    </a:lnTo>
                    <a:lnTo>
                      <a:pt x="1197" y="729"/>
                    </a:lnTo>
                    <a:lnTo>
                      <a:pt x="1209" y="761"/>
                    </a:lnTo>
                    <a:lnTo>
                      <a:pt x="1361" y="665"/>
                    </a:lnTo>
                    <a:lnTo>
                      <a:pt x="1345" y="725"/>
                    </a:lnTo>
                    <a:lnTo>
                      <a:pt x="1330" y="799"/>
                    </a:lnTo>
                    <a:lnTo>
                      <a:pt x="1315" y="875"/>
                    </a:lnTo>
                    <a:lnTo>
                      <a:pt x="1311" y="957"/>
                    </a:lnTo>
                    <a:lnTo>
                      <a:pt x="1314" y="1015"/>
                    </a:lnTo>
                    <a:lnTo>
                      <a:pt x="1338" y="1107"/>
                    </a:lnTo>
                    <a:lnTo>
                      <a:pt x="1304" y="1127"/>
                    </a:lnTo>
                    <a:lnTo>
                      <a:pt x="1243" y="1079"/>
                    </a:lnTo>
                    <a:lnTo>
                      <a:pt x="1177" y="1031"/>
                    </a:lnTo>
                    <a:lnTo>
                      <a:pt x="1100" y="990"/>
                    </a:lnTo>
                    <a:lnTo>
                      <a:pt x="1032" y="960"/>
                    </a:lnTo>
                    <a:lnTo>
                      <a:pt x="990" y="943"/>
                    </a:lnTo>
                    <a:lnTo>
                      <a:pt x="933" y="934"/>
                    </a:lnTo>
                    <a:lnTo>
                      <a:pt x="1063" y="852"/>
                    </a:lnTo>
                    <a:lnTo>
                      <a:pt x="1031" y="784"/>
                    </a:lnTo>
                    <a:lnTo>
                      <a:pt x="1000" y="727"/>
                    </a:lnTo>
                    <a:lnTo>
                      <a:pt x="955" y="664"/>
                    </a:lnTo>
                    <a:lnTo>
                      <a:pt x="908" y="603"/>
                    </a:lnTo>
                    <a:lnTo>
                      <a:pt x="850" y="537"/>
                    </a:lnTo>
                    <a:lnTo>
                      <a:pt x="795" y="480"/>
                    </a:lnTo>
                    <a:lnTo>
                      <a:pt x="713" y="402"/>
                    </a:lnTo>
                    <a:lnTo>
                      <a:pt x="641" y="341"/>
                    </a:lnTo>
                    <a:lnTo>
                      <a:pt x="573" y="290"/>
                    </a:lnTo>
                    <a:lnTo>
                      <a:pt x="497" y="239"/>
                    </a:lnTo>
                    <a:lnTo>
                      <a:pt x="460" y="216"/>
                    </a:lnTo>
                    <a:lnTo>
                      <a:pt x="427" y="193"/>
                    </a:lnTo>
                    <a:lnTo>
                      <a:pt x="396" y="175"/>
                    </a:lnTo>
                    <a:lnTo>
                      <a:pt x="366" y="159"/>
                    </a:lnTo>
                    <a:lnTo>
                      <a:pt x="310" y="128"/>
                    </a:lnTo>
                    <a:lnTo>
                      <a:pt x="269" y="109"/>
                    </a:lnTo>
                    <a:lnTo>
                      <a:pt x="237" y="96"/>
                    </a:lnTo>
                    <a:lnTo>
                      <a:pt x="204" y="82"/>
                    </a:lnTo>
                    <a:lnTo>
                      <a:pt x="170" y="71"/>
                    </a:lnTo>
                    <a:lnTo>
                      <a:pt x="143" y="61"/>
                    </a:lnTo>
                    <a:lnTo>
                      <a:pt x="109" y="50"/>
                    </a:lnTo>
                    <a:lnTo>
                      <a:pt x="72" y="42"/>
                    </a:lnTo>
                    <a:lnTo>
                      <a:pt x="36" y="33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013480" y="3674160"/>
              <a:ext cx="4241160" cy="1806840"/>
              <a:chOff x="2013480" y="3674160"/>
              <a:chExt cx="4241160" cy="1806840"/>
            </a:xfrm>
          </p:grpSpPr>
          <p:sp>
            <p:nvSpPr>
              <p:cNvPr id="419" name=""/>
              <p:cNvSpPr/>
              <p:nvPr/>
            </p:nvSpPr>
            <p:spPr>
              <a:xfrm rot="21507600">
                <a:off x="2035440" y="3729960"/>
                <a:ext cx="4197240" cy="1694880"/>
              </a:xfrm>
              <a:custGeom>
                <a:avLst/>
                <a:gdLst/>
                <a:ahLst/>
                <a:rect l="l" t="t" r="r" b="b"/>
                <a:pathLst>
                  <a:path w="1323" h="1111">
                    <a:moveTo>
                      <a:pt x="0" y="7"/>
                    </a:moveTo>
                    <a:lnTo>
                      <a:pt x="48" y="2"/>
                    </a:lnTo>
                    <a:lnTo>
                      <a:pt x="88" y="0"/>
                    </a:lnTo>
                    <a:lnTo>
                      <a:pt x="123" y="1"/>
                    </a:lnTo>
                    <a:lnTo>
                      <a:pt x="165" y="4"/>
                    </a:lnTo>
                    <a:lnTo>
                      <a:pt x="223" y="11"/>
                    </a:lnTo>
                    <a:lnTo>
                      <a:pt x="280" y="23"/>
                    </a:lnTo>
                    <a:lnTo>
                      <a:pt x="342" y="42"/>
                    </a:lnTo>
                    <a:lnTo>
                      <a:pt x="404" y="63"/>
                    </a:lnTo>
                    <a:lnTo>
                      <a:pt x="463" y="87"/>
                    </a:lnTo>
                    <a:lnTo>
                      <a:pt x="536" y="119"/>
                    </a:lnTo>
                    <a:lnTo>
                      <a:pt x="589" y="146"/>
                    </a:lnTo>
                    <a:lnTo>
                      <a:pt x="658" y="187"/>
                    </a:lnTo>
                    <a:lnTo>
                      <a:pt x="735" y="233"/>
                    </a:lnTo>
                    <a:lnTo>
                      <a:pt x="809" y="280"/>
                    </a:lnTo>
                    <a:lnTo>
                      <a:pt x="863" y="316"/>
                    </a:lnTo>
                    <a:lnTo>
                      <a:pt x="931" y="377"/>
                    </a:lnTo>
                    <a:lnTo>
                      <a:pt x="985" y="428"/>
                    </a:lnTo>
                    <a:lnTo>
                      <a:pt x="1039" y="486"/>
                    </a:lnTo>
                    <a:lnTo>
                      <a:pt x="1091" y="549"/>
                    </a:lnTo>
                    <a:lnTo>
                      <a:pt x="1119" y="589"/>
                    </a:lnTo>
                    <a:lnTo>
                      <a:pt x="1147" y="638"/>
                    </a:lnTo>
                    <a:lnTo>
                      <a:pt x="1167" y="676"/>
                    </a:lnTo>
                    <a:lnTo>
                      <a:pt x="1186" y="714"/>
                    </a:lnTo>
                    <a:lnTo>
                      <a:pt x="1198" y="748"/>
                    </a:lnTo>
                    <a:lnTo>
                      <a:pt x="1323" y="668"/>
                    </a:lnTo>
                    <a:lnTo>
                      <a:pt x="1309" y="732"/>
                    </a:lnTo>
                    <a:lnTo>
                      <a:pt x="1297" y="794"/>
                    </a:lnTo>
                    <a:lnTo>
                      <a:pt x="1283" y="876"/>
                    </a:lnTo>
                    <a:lnTo>
                      <a:pt x="1280" y="957"/>
                    </a:lnTo>
                    <a:lnTo>
                      <a:pt x="1281" y="1028"/>
                    </a:lnTo>
                    <a:lnTo>
                      <a:pt x="1294" y="1111"/>
                    </a:lnTo>
                    <a:lnTo>
                      <a:pt x="1234" y="1065"/>
                    </a:lnTo>
                    <a:lnTo>
                      <a:pt x="1168" y="1017"/>
                    </a:lnTo>
                    <a:lnTo>
                      <a:pt x="1093" y="973"/>
                    </a:lnTo>
                    <a:lnTo>
                      <a:pt x="1025" y="943"/>
                    </a:lnTo>
                    <a:lnTo>
                      <a:pt x="984" y="926"/>
                    </a:lnTo>
                    <a:lnTo>
                      <a:pt x="927" y="917"/>
                    </a:lnTo>
                    <a:lnTo>
                      <a:pt x="1054" y="836"/>
                    </a:lnTo>
                    <a:lnTo>
                      <a:pt x="1022" y="769"/>
                    </a:lnTo>
                    <a:lnTo>
                      <a:pt x="990" y="711"/>
                    </a:lnTo>
                    <a:lnTo>
                      <a:pt x="946" y="648"/>
                    </a:lnTo>
                    <a:lnTo>
                      <a:pt x="899" y="587"/>
                    </a:lnTo>
                    <a:lnTo>
                      <a:pt x="841" y="521"/>
                    </a:lnTo>
                    <a:lnTo>
                      <a:pt x="787" y="462"/>
                    </a:lnTo>
                    <a:lnTo>
                      <a:pt x="704" y="384"/>
                    </a:lnTo>
                    <a:lnTo>
                      <a:pt x="634" y="324"/>
                    </a:lnTo>
                    <a:lnTo>
                      <a:pt x="566" y="273"/>
                    </a:lnTo>
                    <a:lnTo>
                      <a:pt x="490" y="222"/>
                    </a:lnTo>
                    <a:lnTo>
                      <a:pt x="454" y="198"/>
                    </a:lnTo>
                    <a:lnTo>
                      <a:pt x="421" y="175"/>
                    </a:lnTo>
                    <a:lnTo>
                      <a:pt x="391" y="156"/>
                    </a:lnTo>
                    <a:lnTo>
                      <a:pt x="361" y="141"/>
                    </a:lnTo>
                    <a:lnTo>
                      <a:pt x="305" y="109"/>
                    </a:lnTo>
                    <a:lnTo>
                      <a:pt x="264" y="90"/>
                    </a:lnTo>
                    <a:lnTo>
                      <a:pt x="233" y="77"/>
                    </a:lnTo>
                    <a:lnTo>
                      <a:pt x="199" y="62"/>
                    </a:lnTo>
                    <a:lnTo>
                      <a:pt x="167" y="51"/>
                    </a:lnTo>
                    <a:lnTo>
                      <a:pt x="140" y="40"/>
                    </a:lnTo>
                    <a:lnTo>
                      <a:pt x="107" y="30"/>
                    </a:lnTo>
                    <a:lnTo>
                      <a:pt x="70" y="21"/>
                    </a:lnTo>
                    <a:lnTo>
                      <a:pt x="35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1507600">
                <a:off x="2035440" y="3729960"/>
                <a:ext cx="4197240" cy="1694880"/>
              </a:xfrm>
              <a:custGeom>
                <a:avLst/>
                <a:gdLst/>
                <a:ahLst/>
                <a:rect l="l" t="t" r="r" b="b"/>
                <a:pathLst>
                  <a:path w="1323" h="1111">
                    <a:moveTo>
                      <a:pt x="0" y="7"/>
                    </a:moveTo>
                    <a:lnTo>
                      <a:pt x="48" y="2"/>
                    </a:lnTo>
                    <a:lnTo>
                      <a:pt x="88" y="0"/>
                    </a:lnTo>
                    <a:lnTo>
                      <a:pt x="123" y="1"/>
                    </a:lnTo>
                    <a:lnTo>
                      <a:pt x="165" y="4"/>
                    </a:lnTo>
                    <a:lnTo>
                      <a:pt x="223" y="11"/>
                    </a:lnTo>
                    <a:lnTo>
                      <a:pt x="280" y="23"/>
                    </a:lnTo>
                    <a:lnTo>
                      <a:pt x="342" y="42"/>
                    </a:lnTo>
                    <a:lnTo>
                      <a:pt x="404" y="63"/>
                    </a:lnTo>
                    <a:lnTo>
                      <a:pt x="463" y="87"/>
                    </a:lnTo>
                    <a:lnTo>
                      <a:pt x="536" y="119"/>
                    </a:lnTo>
                    <a:lnTo>
                      <a:pt x="589" y="146"/>
                    </a:lnTo>
                    <a:lnTo>
                      <a:pt x="658" y="187"/>
                    </a:lnTo>
                    <a:lnTo>
                      <a:pt x="735" y="233"/>
                    </a:lnTo>
                    <a:lnTo>
                      <a:pt x="809" y="280"/>
                    </a:lnTo>
                    <a:lnTo>
                      <a:pt x="863" y="316"/>
                    </a:lnTo>
                    <a:lnTo>
                      <a:pt x="931" y="377"/>
                    </a:lnTo>
                    <a:lnTo>
                      <a:pt x="985" y="428"/>
                    </a:lnTo>
                    <a:lnTo>
                      <a:pt x="1039" y="486"/>
                    </a:lnTo>
                    <a:lnTo>
                      <a:pt x="1091" y="549"/>
                    </a:lnTo>
                    <a:lnTo>
                      <a:pt x="1119" y="589"/>
                    </a:lnTo>
                    <a:lnTo>
                      <a:pt x="1147" y="638"/>
                    </a:lnTo>
                    <a:lnTo>
                      <a:pt x="1167" y="676"/>
                    </a:lnTo>
                    <a:lnTo>
                      <a:pt x="1186" y="714"/>
                    </a:lnTo>
                    <a:lnTo>
                      <a:pt x="1198" y="748"/>
                    </a:lnTo>
                    <a:lnTo>
                      <a:pt x="1323" y="668"/>
                    </a:lnTo>
                    <a:lnTo>
                      <a:pt x="1309" y="732"/>
                    </a:lnTo>
                    <a:lnTo>
                      <a:pt x="1297" y="794"/>
                    </a:lnTo>
                    <a:lnTo>
                      <a:pt x="1283" y="876"/>
                    </a:lnTo>
                    <a:lnTo>
                      <a:pt x="1280" y="957"/>
                    </a:lnTo>
                    <a:lnTo>
                      <a:pt x="1281" y="1028"/>
                    </a:lnTo>
                    <a:lnTo>
                      <a:pt x="1294" y="1111"/>
                    </a:lnTo>
                    <a:lnTo>
                      <a:pt x="1234" y="1065"/>
                    </a:lnTo>
                    <a:lnTo>
                      <a:pt x="1168" y="1017"/>
                    </a:lnTo>
                    <a:lnTo>
                      <a:pt x="1093" y="973"/>
                    </a:lnTo>
                    <a:lnTo>
                      <a:pt x="1025" y="943"/>
                    </a:lnTo>
                    <a:lnTo>
                      <a:pt x="984" y="926"/>
                    </a:lnTo>
                    <a:lnTo>
                      <a:pt x="927" y="917"/>
                    </a:lnTo>
                    <a:lnTo>
                      <a:pt x="1054" y="836"/>
                    </a:lnTo>
                    <a:lnTo>
                      <a:pt x="1022" y="769"/>
                    </a:lnTo>
                    <a:lnTo>
                      <a:pt x="990" y="711"/>
                    </a:lnTo>
                    <a:lnTo>
                      <a:pt x="946" y="648"/>
                    </a:lnTo>
                    <a:lnTo>
                      <a:pt x="899" y="587"/>
                    </a:lnTo>
                    <a:lnTo>
                      <a:pt x="841" y="521"/>
                    </a:lnTo>
                    <a:lnTo>
                      <a:pt x="787" y="462"/>
                    </a:lnTo>
                    <a:lnTo>
                      <a:pt x="704" y="384"/>
                    </a:lnTo>
                    <a:lnTo>
                      <a:pt x="634" y="324"/>
                    </a:lnTo>
                    <a:lnTo>
                      <a:pt x="566" y="273"/>
                    </a:lnTo>
                    <a:lnTo>
                      <a:pt x="490" y="222"/>
                    </a:lnTo>
                    <a:lnTo>
                      <a:pt x="454" y="198"/>
                    </a:lnTo>
                    <a:lnTo>
                      <a:pt x="421" y="175"/>
                    </a:lnTo>
                    <a:lnTo>
                      <a:pt x="391" y="156"/>
                    </a:lnTo>
                    <a:lnTo>
                      <a:pt x="361" y="141"/>
                    </a:lnTo>
                    <a:lnTo>
                      <a:pt x="305" y="109"/>
                    </a:lnTo>
                    <a:lnTo>
                      <a:pt x="264" y="90"/>
                    </a:lnTo>
                    <a:lnTo>
                      <a:pt x="233" y="77"/>
                    </a:lnTo>
                    <a:lnTo>
                      <a:pt x="199" y="62"/>
                    </a:lnTo>
                    <a:lnTo>
                      <a:pt x="167" y="51"/>
                    </a:lnTo>
                    <a:lnTo>
                      <a:pt x="140" y="40"/>
                    </a:lnTo>
                    <a:lnTo>
                      <a:pt x="107" y="30"/>
                    </a:lnTo>
                    <a:lnTo>
                      <a:pt x="70" y="21"/>
                    </a:lnTo>
                    <a:lnTo>
                      <a:pt x="35" y="12"/>
                    </a:lnTo>
                    <a:lnTo>
                      <a:pt x="0" y="7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 rot="5400000">
            <a:off x="4462200" y="3730320"/>
            <a:ext cx="405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5394240"/>
            <a:ext cx="1122120" cy="6573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26240" y="5626080"/>
            <a:ext cx="6458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1359360" y="2437560"/>
            <a:ext cx="762120" cy="7635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1481400" y="3277440"/>
            <a:ext cx="4892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67520" y="2732040"/>
            <a:ext cx="648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532160" y="3467160"/>
            <a:ext cx="1482480" cy="1520640"/>
            <a:chOff x="1532160" y="3467160"/>
            <a:chExt cx="1482480" cy="1520640"/>
          </a:xfrm>
        </p:grpSpPr>
        <p:sp>
          <p:nvSpPr>
            <p:cNvPr id="428" name=""/>
            <p:cNvSpPr/>
            <p:nvPr/>
          </p:nvSpPr>
          <p:spPr>
            <a:xfrm flipV="1" rot="2759400">
              <a:off x="1479240" y="3966480"/>
              <a:ext cx="1600200" cy="49896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532160" y="3504960"/>
              <a:ext cx="1456560" cy="1482840"/>
              <a:chOff x="1532160" y="3504960"/>
              <a:chExt cx="1456560" cy="1482840"/>
            </a:xfrm>
          </p:grpSpPr>
          <p:sp>
            <p:nvSpPr>
              <p:cNvPr id="430" name=""/>
              <p:cNvSpPr/>
              <p:nvPr/>
            </p:nvSpPr>
            <p:spPr>
              <a:xfrm flipV="1" rot="2759400">
                <a:off x="1469880" y="3996720"/>
                <a:ext cx="1580760" cy="49788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 rot="2759400">
                <a:off x="1469880" y="3996720"/>
                <a:ext cx="1580760" cy="49788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2208240" y="1836360"/>
            <a:ext cx="5531040" cy="2178000"/>
            <a:chOff x="2208240" y="1836360"/>
            <a:chExt cx="5531040" cy="2178000"/>
          </a:xfrm>
        </p:grpSpPr>
        <p:sp>
          <p:nvSpPr>
            <p:cNvPr id="433" name=""/>
            <p:cNvSpPr/>
            <p:nvPr/>
          </p:nvSpPr>
          <p:spPr>
            <a:xfrm rot="20727600">
              <a:off x="2216160" y="2566440"/>
              <a:ext cx="5514840" cy="76752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2257200" y="1836360"/>
              <a:ext cx="5465160" cy="2109600"/>
              <a:chOff x="2257200" y="1836360"/>
              <a:chExt cx="5465160" cy="2109600"/>
            </a:xfrm>
          </p:grpSpPr>
          <p:sp>
            <p:nvSpPr>
              <p:cNvPr id="435" name=""/>
              <p:cNvSpPr/>
              <p:nvPr/>
            </p:nvSpPr>
            <p:spPr>
              <a:xfrm rot="20727600">
                <a:off x="2265840" y="2507760"/>
                <a:ext cx="5447160" cy="76644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0727600">
                <a:off x="2265840" y="2507760"/>
                <a:ext cx="5447160" cy="76644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2282760" y="3247920"/>
            <a:ext cx="4870080" cy="1072800"/>
            <a:chOff x="2282760" y="3247920"/>
            <a:chExt cx="4870080" cy="1072800"/>
          </a:xfrm>
        </p:grpSpPr>
        <p:sp>
          <p:nvSpPr>
            <p:cNvPr id="438" name=""/>
            <p:cNvSpPr/>
            <p:nvPr/>
          </p:nvSpPr>
          <p:spPr>
            <a:xfrm>
              <a:off x="2282760" y="3317040"/>
              <a:ext cx="4870080" cy="1003680"/>
            </a:xfrm>
            <a:custGeom>
              <a:avLst/>
              <a:gdLst/>
              <a:ahLst/>
              <a:rect l="l" t="t" r="r" b="b"/>
              <a:pathLst>
                <a:path w="1974" h="565">
                  <a:moveTo>
                    <a:pt x="0" y="176"/>
                  </a:moveTo>
                  <a:lnTo>
                    <a:pt x="26" y="127"/>
                  </a:lnTo>
                  <a:lnTo>
                    <a:pt x="75" y="105"/>
                  </a:lnTo>
                  <a:lnTo>
                    <a:pt x="115" y="87"/>
                  </a:lnTo>
                  <a:lnTo>
                    <a:pt x="168" y="69"/>
                  </a:lnTo>
                  <a:lnTo>
                    <a:pt x="233" y="51"/>
                  </a:lnTo>
                  <a:lnTo>
                    <a:pt x="285" y="44"/>
                  </a:lnTo>
                  <a:lnTo>
                    <a:pt x="360" y="29"/>
                  </a:lnTo>
                  <a:lnTo>
                    <a:pt x="435" y="17"/>
                  </a:lnTo>
                  <a:lnTo>
                    <a:pt x="507" y="9"/>
                  </a:lnTo>
                  <a:lnTo>
                    <a:pt x="599" y="2"/>
                  </a:lnTo>
                  <a:lnTo>
                    <a:pt x="667" y="0"/>
                  </a:lnTo>
                  <a:lnTo>
                    <a:pt x="760" y="3"/>
                  </a:lnTo>
                  <a:lnTo>
                    <a:pt x="864" y="6"/>
                  </a:lnTo>
                  <a:lnTo>
                    <a:pt x="966" y="13"/>
                  </a:lnTo>
                  <a:lnTo>
                    <a:pt x="1042" y="21"/>
                  </a:lnTo>
                  <a:lnTo>
                    <a:pt x="1146" y="42"/>
                  </a:lnTo>
                  <a:lnTo>
                    <a:pt x="1232" y="64"/>
                  </a:lnTo>
                  <a:lnTo>
                    <a:pt x="1319" y="92"/>
                  </a:lnTo>
                  <a:lnTo>
                    <a:pt x="1409" y="124"/>
                  </a:lnTo>
                  <a:lnTo>
                    <a:pt x="1460" y="148"/>
                  </a:lnTo>
                  <a:lnTo>
                    <a:pt x="1519" y="181"/>
                  </a:lnTo>
                  <a:lnTo>
                    <a:pt x="1562" y="208"/>
                  </a:lnTo>
                  <a:lnTo>
                    <a:pt x="1605" y="235"/>
                  </a:lnTo>
                  <a:lnTo>
                    <a:pt x="1636" y="260"/>
                  </a:lnTo>
                  <a:lnTo>
                    <a:pt x="1726" y="90"/>
                  </a:lnTo>
                  <a:lnTo>
                    <a:pt x="1747" y="156"/>
                  </a:lnTo>
                  <a:lnTo>
                    <a:pt x="1777" y="235"/>
                  </a:lnTo>
                  <a:lnTo>
                    <a:pt x="1811" y="314"/>
                  </a:lnTo>
                  <a:lnTo>
                    <a:pt x="1856" y="396"/>
                  </a:lnTo>
                  <a:lnTo>
                    <a:pt x="1894" y="449"/>
                  </a:lnTo>
                  <a:lnTo>
                    <a:pt x="1974" y="524"/>
                  </a:lnTo>
                  <a:lnTo>
                    <a:pt x="1954" y="561"/>
                  </a:lnTo>
                  <a:lnTo>
                    <a:pt x="1865" y="547"/>
                  </a:lnTo>
                  <a:lnTo>
                    <a:pt x="1770" y="534"/>
                  </a:lnTo>
                  <a:lnTo>
                    <a:pt x="1668" y="533"/>
                  </a:lnTo>
                  <a:lnTo>
                    <a:pt x="1585" y="540"/>
                  </a:lnTo>
                  <a:lnTo>
                    <a:pt x="1533" y="545"/>
                  </a:lnTo>
                  <a:lnTo>
                    <a:pt x="1472" y="565"/>
                  </a:lnTo>
                  <a:lnTo>
                    <a:pt x="1547" y="421"/>
                  </a:lnTo>
                  <a:lnTo>
                    <a:pt x="1476" y="373"/>
                  </a:lnTo>
                  <a:lnTo>
                    <a:pt x="1408" y="333"/>
                  </a:lnTo>
                  <a:lnTo>
                    <a:pt x="1326" y="296"/>
                  </a:lnTo>
                  <a:lnTo>
                    <a:pt x="1243" y="262"/>
                  </a:lnTo>
                  <a:lnTo>
                    <a:pt x="1145" y="229"/>
                  </a:lnTo>
                  <a:lnTo>
                    <a:pt x="1056" y="202"/>
                  </a:lnTo>
                  <a:lnTo>
                    <a:pt x="928" y="170"/>
                  </a:lnTo>
                  <a:lnTo>
                    <a:pt x="820" y="148"/>
                  </a:lnTo>
                  <a:lnTo>
                    <a:pt x="722" y="135"/>
                  </a:lnTo>
                  <a:lnTo>
                    <a:pt x="615" y="125"/>
                  </a:lnTo>
                  <a:lnTo>
                    <a:pt x="566" y="121"/>
                  </a:lnTo>
                  <a:lnTo>
                    <a:pt x="518" y="116"/>
                  </a:lnTo>
                  <a:lnTo>
                    <a:pt x="477" y="115"/>
                  </a:lnTo>
                  <a:lnTo>
                    <a:pt x="438" y="115"/>
                  </a:lnTo>
                  <a:lnTo>
                    <a:pt x="364" y="114"/>
                  </a:lnTo>
                  <a:lnTo>
                    <a:pt x="313" y="117"/>
                  </a:lnTo>
                  <a:lnTo>
                    <a:pt x="271" y="120"/>
                  </a:lnTo>
                  <a:lnTo>
                    <a:pt x="231" y="124"/>
                  </a:lnTo>
                  <a:lnTo>
                    <a:pt x="193" y="130"/>
                  </a:lnTo>
                  <a:lnTo>
                    <a:pt x="158" y="135"/>
                  </a:lnTo>
                  <a:lnTo>
                    <a:pt x="119" y="141"/>
                  </a:lnTo>
                  <a:lnTo>
                    <a:pt x="78" y="153"/>
                  </a:lnTo>
                  <a:lnTo>
                    <a:pt x="36" y="16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339640" y="3247920"/>
              <a:ext cx="4810320" cy="1001520"/>
              <a:chOff x="2339640" y="3247920"/>
              <a:chExt cx="4810320" cy="1001520"/>
            </a:xfrm>
          </p:grpSpPr>
          <p:sp>
            <p:nvSpPr>
              <p:cNvPr id="440" name=""/>
              <p:cNvSpPr/>
              <p:nvPr/>
            </p:nvSpPr>
            <p:spPr>
              <a:xfrm>
                <a:off x="2339640" y="3247920"/>
                <a:ext cx="4810320" cy="10015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39640" y="3247920"/>
                <a:ext cx="4810320" cy="1001520"/>
              </a:xfrm>
              <a:custGeom>
                <a:avLst/>
                <a:gdLst/>
                <a:ahLst/>
                <a:rect l="l" t="t" r="r" b="b"/>
                <a:pathLst>
                  <a:path w="1950" h="564">
                    <a:moveTo>
                      <a:pt x="0" y="168"/>
                    </a:moveTo>
                    <a:lnTo>
                      <a:pt x="45" y="138"/>
                    </a:lnTo>
                    <a:lnTo>
                      <a:pt x="83" y="116"/>
                    </a:lnTo>
                    <a:lnTo>
                      <a:pt x="119" y="99"/>
                    </a:lnTo>
                    <a:lnTo>
                      <a:pt x="162" y="81"/>
                    </a:lnTo>
                    <a:lnTo>
                      <a:pt x="223" y="57"/>
                    </a:lnTo>
                    <a:lnTo>
                      <a:pt x="285" y="40"/>
                    </a:lnTo>
                    <a:lnTo>
                      <a:pt x="359" y="27"/>
                    </a:lnTo>
                    <a:lnTo>
                      <a:pt x="433" y="15"/>
                    </a:lnTo>
                    <a:lnTo>
                      <a:pt x="505" y="8"/>
                    </a:lnTo>
                    <a:lnTo>
                      <a:pt x="597" y="2"/>
                    </a:lnTo>
                    <a:lnTo>
                      <a:pt x="665" y="0"/>
                    </a:lnTo>
                    <a:lnTo>
                      <a:pt x="757" y="4"/>
                    </a:lnTo>
                    <a:lnTo>
                      <a:pt x="861" y="8"/>
                    </a:lnTo>
                    <a:lnTo>
                      <a:pt x="963" y="16"/>
                    </a:lnTo>
                    <a:lnTo>
                      <a:pt x="1039" y="23"/>
                    </a:lnTo>
                    <a:lnTo>
                      <a:pt x="1143" y="47"/>
                    </a:lnTo>
                    <a:lnTo>
                      <a:pt x="1228" y="68"/>
                    </a:lnTo>
                    <a:lnTo>
                      <a:pt x="1315" y="96"/>
                    </a:lnTo>
                    <a:lnTo>
                      <a:pt x="1405" y="128"/>
                    </a:lnTo>
                    <a:lnTo>
                      <a:pt x="1457" y="153"/>
                    </a:lnTo>
                    <a:lnTo>
                      <a:pt x="1515" y="185"/>
                    </a:lnTo>
                    <a:lnTo>
                      <a:pt x="1559" y="212"/>
                    </a:lnTo>
                    <a:lnTo>
                      <a:pt x="1601" y="239"/>
                    </a:lnTo>
                    <a:lnTo>
                      <a:pt x="1632" y="264"/>
                    </a:lnTo>
                    <a:lnTo>
                      <a:pt x="1707" y="123"/>
                    </a:lnTo>
                    <a:lnTo>
                      <a:pt x="1731" y="192"/>
                    </a:lnTo>
                    <a:lnTo>
                      <a:pt x="1758" y="258"/>
                    </a:lnTo>
                    <a:lnTo>
                      <a:pt x="1795" y="344"/>
                    </a:lnTo>
                    <a:lnTo>
                      <a:pt x="1842" y="422"/>
                    </a:lnTo>
                    <a:lnTo>
                      <a:pt x="1887" y="489"/>
                    </a:lnTo>
                    <a:lnTo>
                      <a:pt x="1950" y="562"/>
                    </a:lnTo>
                    <a:lnTo>
                      <a:pt x="1862" y="548"/>
                    </a:lnTo>
                    <a:lnTo>
                      <a:pt x="1770" y="537"/>
                    </a:lnTo>
                    <a:lnTo>
                      <a:pt x="1668" y="533"/>
                    </a:lnTo>
                    <a:lnTo>
                      <a:pt x="1583" y="539"/>
                    </a:lnTo>
                    <a:lnTo>
                      <a:pt x="1533" y="544"/>
                    </a:lnTo>
                    <a:lnTo>
                      <a:pt x="1472" y="564"/>
                    </a:lnTo>
                    <a:lnTo>
                      <a:pt x="1547" y="422"/>
                    </a:lnTo>
                    <a:lnTo>
                      <a:pt x="1473" y="374"/>
                    </a:lnTo>
                    <a:lnTo>
                      <a:pt x="1406" y="335"/>
                    </a:lnTo>
                    <a:lnTo>
                      <a:pt x="1324" y="297"/>
                    </a:lnTo>
                    <a:lnTo>
                      <a:pt x="1241" y="262"/>
                    </a:lnTo>
                    <a:lnTo>
                      <a:pt x="1143" y="230"/>
                    </a:lnTo>
                    <a:lnTo>
                      <a:pt x="1054" y="202"/>
                    </a:lnTo>
                    <a:lnTo>
                      <a:pt x="925" y="169"/>
                    </a:lnTo>
                    <a:lnTo>
                      <a:pt x="818" y="147"/>
                    </a:lnTo>
                    <a:lnTo>
                      <a:pt x="721" y="133"/>
                    </a:lnTo>
                    <a:lnTo>
                      <a:pt x="614" y="123"/>
                    </a:lnTo>
                    <a:lnTo>
                      <a:pt x="565" y="118"/>
                    </a:lnTo>
                    <a:lnTo>
                      <a:pt x="517" y="113"/>
                    </a:lnTo>
                    <a:lnTo>
                      <a:pt x="477" y="111"/>
                    </a:lnTo>
                    <a:lnTo>
                      <a:pt x="438" y="112"/>
                    </a:lnTo>
                    <a:lnTo>
                      <a:pt x="363" y="110"/>
                    </a:lnTo>
                    <a:lnTo>
                      <a:pt x="312" y="112"/>
                    </a:lnTo>
                    <a:lnTo>
                      <a:pt x="272" y="116"/>
                    </a:lnTo>
                    <a:lnTo>
                      <a:pt x="231" y="119"/>
                    </a:lnTo>
                    <a:lnTo>
                      <a:pt x="193" y="124"/>
                    </a:lnTo>
                    <a:lnTo>
                      <a:pt x="159" y="129"/>
                    </a:lnTo>
                    <a:lnTo>
                      <a:pt x="120" y="135"/>
                    </a:lnTo>
                    <a:lnTo>
                      <a:pt x="78" y="146"/>
                    </a:lnTo>
                    <a:lnTo>
                      <a:pt x="38" y="155"/>
                    </a:lnTo>
                    <a:lnTo>
                      <a:pt x="0" y="168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5092560" y="4000680"/>
            <a:ext cx="4669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171200">
            <a:off x="7159320" y="3711240"/>
            <a:ext cx="1482840" cy="13460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772400" y="3921120"/>
            <a:ext cx="593640" cy="579240"/>
            <a:chOff x="7772400" y="3921120"/>
            <a:chExt cx="593640" cy="579240"/>
          </a:xfrm>
        </p:grpSpPr>
        <p:sp>
          <p:nvSpPr>
            <p:cNvPr id="445" name=""/>
            <p:cNvSpPr/>
            <p:nvPr/>
          </p:nvSpPr>
          <p:spPr>
            <a:xfrm>
              <a:off x="7772400" y="4178160"/>
              <a:ext cx="593640" cy="322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88240" y="4259160"/>
              <a:ext cx="5619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27560" y="3921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 rot="1401600">
            <a:off x="2841480" y="4385880"/>
            <a:ext cx="1017720" cy="128916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66ff99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7280" y="4898160"/>
            <a:ext cx="968400" cy="7239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05320" y="4937040"/>
            <a:ext cx="304560" cy="1371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537720" y="4248720"/>
            <a:ext cx="728640" cy="704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35200" y="6222960"/>
            <a:ext cx="4669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674800" y="4898880"/>
            <a:ext cx="852480" cy="976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419720" y="5470560"/>
            <a:ext cx="426960" cy="396360"/>
            <a:chOff x="4419720" y="5470560"/>
            <a:chExt cx="426960" cy="396360"/>
          </a:xfrm>
        </p:grpSpPr>
        <p:sp>
          <p:nvSpPr>
            <p:cNvPr id="455" name=""/>
            <p:cNvSpPr/>
            <p:nvPr/>
          </p:nvSpPr>
          <p:spPr>
            <a:xfrm>
              <a:off x="4524480" y="547056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5617800"/>
              <a:ext cx="426960" cy="249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05400" y="56671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 flipV="1">
            <a:off x="7464600" y="3031920"/>
            <a:ext cx="612720" cy="121572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444000" y="4420800"/>
            <a:ext cx="995400" cy="1156320"/>
          </a:xfrm>
          <a:prstGeom prst="line">
            <a:avLst/>
          </a:prstGeom>
          <a:ln w="507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832560" y="4373280"/>
            <a:ext cx="3555360" cy="4132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808600" y="5394240"/>
            <a:ext cx="591840" cy="503280"/>
            <a:chOff x="5808600" y="5394240"/>
            <a:chExt cx="591840" cy="503280"/>
          </a:xfrm>
        </p:grpSpPr>
        <p:sp>
          <p:nvSpPr>
            <p:cNvPr id="462" name=""/>
            <p:cNvSpPr/>
            <p:nvPr/>
          </p:nvSpPr>
          <p:spPr>
            <a:xfrm>
              <a:off x="5808600" y="5592600"/>
              <a:ext cx="59184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2520" y="566892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70600" y="5394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8001000" y="2498760"/>
            <a:ext cx="591840" cy="503280"/>
            <a:chOff x="8001000" y="2498760"/>
            <a:chExt cx="591840" cy="503280"/>
          </a:xfrm>
        </p:grpSpPr>
        <p:sp>
          <p:nvSpPr>
            <p:cNvPr id="466" name=""/>
            <p:cNvSpPr/>
            <p:nvPr/>
          </p:nvSpPr>
          <p:spPr>
            <a:xfrm>
              <a:off x="8001000" y="2697120"/>
              <a:ext cx="59184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34920" y="27734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63000" y="2498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141720" y="4433760"/>
            <a:ext cx="591840" cy="503280"/>
            <a:chOff x="3141720" y="4433760"/>
            <a:chExt cx="591840" cy="503280"/>
          </a:xfrm>
        </p:grpSpPr>
        <p:sp>
          <p:nvSpPr>
            <p:cNvPr id="470" name=""/>
            <p:cNvSpPr/>
            <p:nvPr/>
          </p:nvSpPr>
          <p:spPr>
            <a:xfrm>
              <a:off x="3141720" y="4632120"/>
              <a:ext cx="59184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75640" y="47084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03720" y="4433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267080" y="3930480"/>
            <a:ext cx="426960" cy="397080"/>
            <a:chOff x="4267080" y="3930480"/>
            <a:chExt cx="426960" cy="397080"/>
          </a:xfrm>
        </p:grpSpPr>
        <p:sp>
          <p:nvSpPr>
            <p:cNvPr id="474" name=""/>
            <p:cNvSpPr/>
            <p:nvPr/>
          </p:nvSpPr>
          <p:spPr>
            <a:xfrm>
              <a:off x="4371840" y="393048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67080" y="4078080"/>
              <a:ext cx="426960" cy="249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52760" y="4127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239920" y="5622840"/>
            <a:ext cx="426960" cy="397080"/>
            <a:chOff x="2239920" y="5622840"/>
            <a:chExt cx="426960" cy="397080"/>
          </a:xfrm>
        </p:grpSpPr>
        <p:sp>
          <p:nvSpPr>
            <p:cNvPr id="478" name=""/>
            <p:cNvSpPr/>
            <p:nvPr/>
          </p:nvSpPr>
          <p:spPr>
            <a:xfrm>
              <a:off x="2344680" y="562284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39920" y="5770440"/>
              <a:ext cx="426960" cy="249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25600" y="5819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657600" y="6156360"/>
            <a:ext cx="426960" cy="396360"/>
            <a:chOff x="3657600" y="6156360"/>
            <a:chExt cx="426960" cy="396360"/>
          </a:xfrm>
        </p:grpSpPr>
        <p:sp>
          <p:nvSpPr>
            <p:cNvPr id="482" name=""/>
            <p:cNvSpPr/>
            <p:nvPr/>
          </p:nvSpPr>
          <p:spPr>
            <a:xfrm>
              <a:off x="3762360" y="6156360"/>
              <a:ext cx="2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57600" y="6303600"/>
              <a:ext cx="426960" cy="249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43280" y="6352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1473120" y="2924280"/>
            <a:ext cx="561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67080" y="228600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468520"/>
            <a:ext cx="591840" cy="3049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295280" y="2743200"/>
            <a:ext cx="593640" cy="579240"/>
            <a:chOff x="1295280" y="2743200"/>
            <a:chExt cx="593640" cy="579240"/>
          </a:xfrm>
        </p:grpSpPr>
        <p:sp>
          <p:nvSpPr>
            <p:cNvPr id="489" name=""/>
            <p:cNvSpPr/>
            <p:nvPr/>
          </p:nvSpPr>
          <p:spPr>
            <a:xfrm>
              <a:off x="1295280" y="3000240"/>
              <a:ext cx="593640" cy="322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11120" y="3081240"/>
              <a:ext cx="5619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50440" y="2743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066680" y="4267080"/>
            <a:ext cx="1523880" cy="228600"/>
            <a:chOff x="1066680" y="4267080"/>
            <a:chExt cx="1523880" cy="22860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371960" y="4337280"/>
              <a:ext cx="67320" cy="7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4" name=""/>
            <p:cNvGrpSpPr/>
            <p:nvPr/>
          </p:nvGrpSpPr>
          <p:grpSpPr>
            <a:xfrm>
              <a:off x="1749600" y="4282200"/>
              <a:ext cx="840960" cy="210960"/>
              <a:chOff x="1749600" y="4282200"/>
              <a:chExt cx="840960" cy="210960"/>
            </a:xfrm>
          </p:grpSpPr>
          <p:sp>
            <p:nvSpPr>
              <p:cNvPr id="495" name=""/>
              <p:cNvSpPr/>
              <p:nvPr/>
            </p:nvSpPr>
            <p:spPr>
              <a:xfrm>
                <a:off x="1808640" y="4398480"/>
                <a:ext cx="41868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2257200" y="4296960"/>
                <a:ext cx="40320" cy="115560"/>
                <a:chOff x="2257200" y="4296960"/>
                <a:chExt cx="40320" cy="115560"/>
              </a:xfrm>
            </p:grpSpPr>
            <p:grpSp>
              <p:nvGrpSpPr>
                <p:cNvPr id="497" name=""/>
                <p:cNvGrpSpPr/>
                <p:nvPr/>
              </p:nvGrpSpPr>
              <p:grpSpPr>
                <a:xfrm>
                  <a:off x="2262960" y="4296960"/>
                  <a:ext cx="34560" cy="115560"/>
                  <a:chOff x="2262960" y="4296960"/>
                  <a:chExt cx="34560" cy="11556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2263320" y="4320000"/>
                    <a:ext cx="34200" cy="85320"/>
                  </a:xfrm>
                  <a:prstGeom prst="rect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flipV="1">
                    <a:off x="2262960" y="4296960"/>
                    <a:ext cx="34560" cy="18720"/>
                  </a:xfrm>
                  <a:custGeom>
                    <a:avLst/>
                    <a:gdLst>
                      <a:gd name="textAreaLeft" fmla="*/ 5040 w 34560"/>
                      <a:gd name="textAreaRight" fmla="*/ 29520 w 34560"/>
                      <a:gd name="textAreaTop" fmla="*/ 2520 h 18720"/>
                      <a:gd name="textAreaBottom" fmla="*/ 16200 h 1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01" y="21600"/>
                        </a:lnTo>
                        <a:lnTo>
                          <a:pt x="2699" y="21600"/>
                        </a:lnTo>
                        <a:close/>
                      </a:path>
                    </a:pathLst>
                  </a:cu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2268720" y="4296960"/>
                    <a:ext cx="27360" cy="115560"/>
                    <a:chOff x="2268720" y="4296960"/>
                    <a:chExt cx="27360" cy="11556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2271240" y="4408560"/>
                      <a:ext cx="2052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2275200" y="4307760"/>
                      <a:ext cx="11160" cy="3924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2271960" y="4350240"/>
                      <a:ext cx="17280" cy="5580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2275200" y="4386960"/>
                      <a:ext cx="2088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2289240" y="4341240"/>
                      <a:ext cx="0" cy="66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flipV="1" rot="10800000">
                      <a:off x="2268720" y="4296960"/>
                      <a:ext cx="23760" cy="15120"/>
                    </a:xfrm>
                    <a:custGeom>
                      <a:avLst/>
                      <a:gdLst>
                        <a:gd name="textAreaLeft" fmla="*/ 4680 w 23760"/>
                        <a:gd name="textAreaRight" fmla="*/ 19080 w 23760"/>
                        <a:gd name="textAreaTop" fmla="*/ 2880 h 15120"/>
                        <a:gd name="textAreaBottom" fmla="*/ 12240 h 15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692" y="21600"/>
                          </a:lnTo>
                          <a:lnTo>
                            <a:pt x="4908" y="2160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2271960" y="4308120"/>
                      <a:ext cx="18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8" name=""/>
                  <p:cNvSpPr/>
                  <p:nvPr/>
                </p:nvSpPr>
                <p:spPr>
                  <a:xfrm>
                    <a:off x="2268000" y="43178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91760" y="43178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0" name=""/>
                <p:cNvSpPr/>
                <p:nvPr/>
              </p:nvSpPr>
              <p:spPr>
                <a:xfrm>
                  <a:off x="2257200" y="4358880"/>
                  <a:ext cx="4680" cy="464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2325600" y="4282200"/>
                <a:ext cx="92160" cy="89640"/>
                <a:chOff x="2325600" y="4282200"/>
                <a:chExt cx="92160" cy="896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2325600" y="428220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41800" y="429660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361240" y="431640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2390040" y="4399560"/>
                <a:ext cx="93240" cy="4032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13360" y="433800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329920" y="433800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360160" y="4330080"/>
                <a:ext cx="74160" cy="6696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325960" y="4294440"/>
                <a:ext cx="59040" cy="7920"/>
                <a:chOff x="2325960" y="4294440"/>
                <a:chExt cx="59040" cy="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325960" y="430236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325960" y="429444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1781280" y="4433400"/>
                <a:ext cx="4536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749600" y="4410000"/>
                <a:ext cx="5562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36040" y="4318560"/>
                <a:ext cx="23400" cy="75600"/>
              </a:xfrm>
              <a:custGeom>
                <a:avLst/>
                <a:gdLst/>
                <a:ahLst/>
                <a:rect l="l" t="t" r="r" b="b"/>
                <a:pathLst>
                  <a:path w="44" h="148">
                    <a:moveTo>
                      <a:pt x="43" y="0"/>
                    </a:moveTo>
                    <a:lnTo>
                      <a:pt x="43" y="147"/>
                    </a:lnTo>
                    <a:lnTo>
                      <a:pt x="17" y="147"/>
                    </a:lnTo>
                    <a:lnTo>
                      <a:pt x="17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360160" y="4293720"/>
                <a:ext cx="73440" cy="33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11560" y="4349160"/>
                <a:ext cx="31320" cy="4752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53160" y="4394880"/>
                <a:ext cx="249120" cy="24480"/>
              </a:xfrm>
              <a:prstGeom prst="rect">
                <a:avLst/>
              </a:prstGeom>
              <a:solidFill>
                <a:srgbClr val="47474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313360" y="430596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171880" y="4419000"/>
                <a:ext cx="231480" cy="23400"/>
              </a:xfrm>
              <a:custGeom>
                <a:avLst/>
                <a:gdLst/>
                <a:ahLst/>
                <a:rect l="l" t="t" r="r" b="b"/>
                <a:pathLst>
                  <a:path w="434" h="46">
                    <a:moveTo>
                      <a:pt x="433" y="0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433" y="45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09400" y="4299480"/>
                <a:ext cx="9000" cy="2592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16" y="0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16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2324160" y="4294800"/>
                <a:ext cx="14760" cy="25920"/>
                <a:chOff x="2324160" y="4294800"/>
                <a:chExt cx="14760" cy="259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324160" y="4306320"/>
                  <a:ext cx="14760" cy="14400"/>
                </a:xfrm>
                <a:prstGeom prst="ellipse">
                  <a:avLst/>
                </a:prstGeom>
                <a:solidFill>
                  <a:srgbClr val="767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328480" y="4294800"/>
                  <a:ext cx="6120" cy="19080"/>
                </a:xfrm>
                <a:prstGeom prst="rect">
                  <a:avLst/>
                </a:prstGeom>
                <a:solidFill>
                  <a:srgbClr val="3165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2360880" y="4348800"/>
                <a:ext cx="73440" cy="21960"/>
              </a:xfrm>
              <a:prstGeom prst="rect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61960" y="4295880"/>
                <a:ext cx="28800" cy="3168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353320" y="4394160"/>
                <a:ext cx="36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54400" y="4406760"/>
                <a:ext cx="4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2367360" y="4403520"/>
                <a:ext cx="92160" cy="89640"/>
                <a:chOff x="2367360" y="4403520"/>
                <a:chExt cx="92160" cy="896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367360" y="440352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83560" y="441792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403000" y="443772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2174040" y="4394880"/>
                <a:ext cx="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175840" y="4413240"/>
                <a:ext cx="17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2255040" y="4403520"/>
                <a:ext cx="92160" cy="89640"/>
                <a:chOff x="2255040" y="4403520"/>
                <a:chExt cx="92160" cy="8964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2255040" y="440352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271600" y="441792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290680" y="443772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812960" y="4400640"/>
                <a:ext cx="92160" cy="89280"/>
                <a:chOff x="1812960" y="4400640"/>
                <a:chExt cx="92160" cy="892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812960" y="440064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29520" y="441468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48600" y="443484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2365200" y="4396320"/>
                <a:ext cx="6840" cy="7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43400" y="4433760"/>
                <a:ext cx="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28200" y="4293720"/>
                <a:ext cx="124920" cy="13680"/>
              </a:xfrm>
              <a:custGeom>
                <a:avLst/>
                <a:gdLst/>
                <a:ahLst/>
                <a:rect l="l" t="t" r="r" b="b"/>
                <a:pathLst>
                  <a:path w="234" h="27">
                    <a:moveTo>
                      <a:pt x="3" y="26"/>
                    </a:moveTo>
                    <a:lnTo>
                      <a:pt x="219" y="26"/>
                    </a:lnTo>
                    <a:lnTo>
                      <a:pt x="233" y="0"/>
                    </a:lnTo>
                    <a:lnTo>
                      <a:pt x="0" y="0"/>
                    </a:lnTo>
                    <a:lnTo>
                      <a:pt x="3" y="26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2549160" y="4344120"/>
                <a:ext cx="22320" cy="21960"/>
                <a:chOff x="2549160" y="4344120"/>
                <a:chExt cx="22320" cy="21960"/>
              </a:xfrm>
            </p:grpSpPr>
            <p:sp>
              <p:nvSpPr>
                <p:cNvPr id="556" name=""/>
                <p:cNvSpPr/>
                <p:nvPr/>
              </p:nvSpPr>
              <p:spPr>
                <a:xfrm flipH="1">
                  <a:off x="2549160" y="4344120"/>
                  <a:ext cx="15840" cy="1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557440" y="4352400"/>
                  <a:ext cx="14040" cy="1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430720" y="4307040"/>
                <a:ext cx="159840" cy="129960"/>
              </a:xfrm>
              <a:custGeom>
                <a:avLst/>
                <a:gdLst/>
                <a:ahLst/>
                <a:rect l="l" t="t" r="r" b="b"/>
                <a:pathLst>
                  <a:path w="300" h="254">
                    <a:moveTo>
                      <a:pt x="0" y="0"/>
                    </a:moveTo>
                    <a:lnTo>
                      <a:pt x="0" y="18"/>
                    </a:lnTo>
                    <a:lnTo>
                      <a:pt x="0" y="168"/>
                    </a:lnTo>
                    <a:lnTo>
                      <a:pt x="85" y="251"/>
                    </a:lnTo>
                    <a:lnTo>
                      <a:pt x="204" y="253"/>
                    </a:lnTo>
                    <a:lnTo>
                      <a:pt x="299" y="159"/>
                    </a:lnTo>
                    <a:lnTo>
                      <a:pt x="299" y="92"/>
                    </a:lnTo>
                    <a:lnTo>
                      <a:pt x="86" y="90"/>
                    </a:lnTo>
                    <a:lnTo>
                      <a:pt x="86" y="21"/>
                    </a:lnTo>
                    <a:lnTo>
                      <a:pt x="189" y="21"/>
                    </a:lnTo>
                    <a:lnTo>
                      <a:pt x="189" y="87"/>
                    </a:lnTo>
                    <a:lnTo>
                      <a:pt x="203" y="87"/>
                    </a:lnTo>
                    <a:lnTo>
                      <a:pt x="203" y="21"/>
                    </a:lnTo>
                    <a:lnTo>
                      <a:pt x="224" y="21"/>
                    </a:lnTo>
                    <a:lnTo>
                      <a:pt x="281" y="85"/>
                    </a:lnTo>
                    <a:lnTo>
                      <a:pt x="291" y="85"/>
                    </a:lnTo>
                    <a:lnTo>
                      <a:pt x="2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79400" y="4353840"/>
                <a:ext cx="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84440" y="4353840"/>
                <a:ext cx="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464560" y="430704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458080" y="430704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37200" y="4307040"/>
                <a:ext cx="0" cy="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472480" y="4431600"/>
                <a:ext cx="7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496960" y="4438800"/>
                <a:ext cx="16200" cy="2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96960" y="4452120"/>
                <a:ext cx="1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918800" y="4400640"/>
                <a:ext cx="92160" cy="89280"/>
                <a:chOff x="1918800" y="4400640"/>
                <a:chExt cx="92160" cy="892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18800" y="440064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935360" y="441468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954440" y="443484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2037600" y="4394160"/>
                <a:ext cx="169200" cy="58680"/>
                <a:chOff x="2037600" y="4394160"/>
                <a:chExt cx="169200" cy="586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2161440" y="4430160"/>
                  <a:ext cx="4536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161440" y="4404600"/>
                  <a:ext cx="45360" cy="1908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37600" y="4397400"/>
                  <a:ext cx="99360" cy="48960"/>
                </a:xfrm>
                <a:custGeom>
                  <a:avLst/>
                  <a:gdLst/>
                  <a:ahLst/>
                  <a:rect l="l" t="t" r="r" b="b"/>
                  <a:pathLst>
                    <a:path w="186" h="96">
                      <a:moveTo>
                        <a:pt x="185" y="0"/>
                      </a:moveTo>
                      <a:lnTo>
                        <a:pt x="0" y="0"/>
                      </a:lnTo>
                      <a:lnTo>
                        <a:pt x="0" y="95"/>
                      </a:lnTo>
                      <a:lnTo>
                        <a:pt x="185" y="95"/>
                      </a:lnTo>
                      <a:lnTo>
                        <a:pt x="185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70000" y="439416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38680" y="444492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125440" y="444492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48040" y="439812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53440" y="439812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20040" y="439812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125440" y="439812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100960" y="4410360"/>
                  <a:ext cx="1260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2400120" y="4299120"/>
                <a:ext cx="20520" cy="20880"/>
              </a:xfrm>
              <a:prstGeom prst="ellipse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1129320" y="4409640"/>
              <a:ext cx="49896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97280" y="4442040"/>
              <a:ext cx="5400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066680" y="4417560"/>
              <a:ext cx="641160" cy="226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63840" y="440712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072440" y="4412160"/>
              <a:ext cx="109440" cy="83520"/>
              <a:chOff x="1072440" y="4412160"/>
              <a:chExt cx="109440" cy="83520"/>
            </a:xfrm>
          </p:grpSpPr>
          <p:sp>
            <p:nvSpPr>
              <p:cNvPr id="589" name=""/>
              <p:cNvSpPr/>
              <p:nvPr/>
            </p:nvSpPr>
            <p:spPr>
              <a:xfrm>
                <a:off x="1072440" y="441216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091880" y="442548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14920" y="444384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207440" y="4412160"/>
              <a:ext cx="109440" cy="83520"/>
              <a:chOff x="1207440" y="4412160"/>
              <a:chExt cx="109440" cy="83520"/>
            </a:xfrm>
          </p:grpSpPr>
          <p:sp>
            <p:nvSpPr>
              <p:cNvPr id="593" name=""/>
              <p:cNvSpPr/>
              <p:nvPr/>
            </p:nvSpPr>
            <p:spPr>
              <a:xfrm>
                <a:off x="1207440" y="441216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26880" y="442548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49920" y="444384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402560" y="4405680"/>
              <a:ext cx="201600" cy="55080"/>
              <a:chOff x="1402560" y="4405680"/>
              <a:chExt cx="201600" cy="55080"/>
            </a:xfrm>
          </p:grpSpPr>
          <p:sp>
            <p:nvSpPr>
              <p:cNvPr id="597" name=""/>
              <p:cNvSpPr/>
              <p:nvPr/>
            </p:nvSpPr>
            <p:spPr>
              <a:xfrm>
                <a:off x="1550160" y="4439160"/>
                <a:ext cx="54000" cy="111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50160" y="4415400"/>
                <a:ext cx="54000" cy="180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402560" y="4408920"/>
                <a:ext cx="118080" cy="45360"/>
              </a:xfrm>
              <a:custGeom>
                <a:avLst/>
                <a:gdLst/>
                <a:ahLst/>
                <a:rect l="l" t="t" r="r" b="b"/>
                <a:pathLst>
                  <a:path w="186" h="96">
                    <a:moveTo>
                      <a:pt x="185" y="0"/>
                    </a:moveTo>
                    <a:lnTo>
                      <a:pt x="0" y="0"/>
                    </a:lnTo>
                    <a:lnTo>
                      <a:pt x="0" y="95"/>
                    </a:lnTo>
                    <a:lnTo>
                      <a:pt x="185" y="95"/>
                    </a:lnTo>
                    <a:lnTo>
                      <a:pt x="185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441080" y="440568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403640" y="445320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507320" y="445320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415160" y="44092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421280" y="44092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500840" y="44092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507320" y="44092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478160" y="4420800"/>
                <a:ext cx="1512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081800" y="4284000"/>
              <a:ext cx="633240" cy="119520"/>
              <a:chOff x="1081800" y="4284000"/>
              <a:chExt cx="633240" cy="11952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1083960" y="4284000"/>
                <a:ext cx="631080" cy="115560"/>
                <a:chOff x="1083960" y="4284000"/>
                <a:chExt cx="631080" cy="11556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1644120" y="4284000"/>
                  <a:ext cx="70920" cy="113760"/>
                  <a:chOff x="1644120" y="4284000"/>
                  <a:chExt cx="70920" cy="11376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rot="360000">
                    <a:off x="1665000" y="4286160"/>
                    <a:ext cx="47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1644120" y="4303800"/>
                    <a:ext cx="20160" cy="9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1648080" y="4303800"/>
                    <a:ext cx="1908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360000">
                    <a:off x="1666800" y="4287960"/>
                    <a:ext cx="410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42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425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5" name=""/>
                <p:cNvSpPr/>
                <p:nvPr/>
              </p:nvSpPr>
              <p:spPr>
                <a:xfrm flipV="1">
                  <a:off x="1083960" y="4395240"/>
                  <a:ext cx="574920" cy="3960"/>
                </a:xfrm>
                <a:custGeom>
                  <a:avLst/>
                  <a:gdLst>
                    <a:gd name="textAreaLeft" fmla="*/ 89640 w 574920"/>
                    <a:gd name="textAreaRight" fmla="*/ 485280 w 57492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30120" y="4394880"/>
                  <a:ext cx="41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237680" y="4397040"/>
                  <a:ext cx="41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1081800" y="4287960"/>
                <a:ext cx="631080" cy="115560"/>
                <a:chOff x="1081800" y="4287960"/>
                <a:chExt cx="631080" cy="115560"/>
              </a:xfrm>
            </p:grpSpPr>
            <p:grpSp>
              <p:nvGrpSpPr>
                <p:cNvPr id="619" name=""/>
                <p:cNvGrpSpPr/>
                <p:nvPr/>
              </p:nvGrpSpPr>
              <p:grpSpPr>
                <a:xfrm>
                  <a:off x="1642680" y="4287960"/>
                  <a:ext cx="70200" cy="114480"/>
                  <a:chOff x="1642680" y="4287960"/>
                  <a:chExt cx="70200" cy="11448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 rot="360000">
                    <a:off x="1662840" y="4290120"/>
                    <a:ext cx="47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1642680" y="4308120"/>
                    <a:ext cx="2016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1645920" y="4308120"/>
                    <a:ext cx="19800" cy="9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rot="360000">
                    <a:off x="1666080" y="4293000"/>
                    <a:ext cx="399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71"/>
                        </a:moveTo>
                        <a:arcTo wR="10800" hR="10800" stAng="-10727201" swAng="522258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71"/>
                        </a:moveTo>
                        <a:arcTo wR="10800" hR="10800" stAng="-10727201" swAng="522258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4" name=""/>
                <p:cNvSpPr/>
                <p:nvPr/>
              </p:nvSpPr>
              <p:spPr>
                <a:xfrm flipV="1">
                  <a:off x="1081800" y="4399200"/>
                  <a:ext cx="575640" cy="3960"/>
                </a:xfrm>
                <a:custGeom>
                  <a:avLst/>
                  <a:gdLst>
                    <a:gd name="textAreaLeft" fmla="*/ 89640 w 575640"/>
                    <a:gd name="textAreaRight" fmla="*/ 486000 w 57564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227960" y="4399200"/>
                  <a:ext cx="41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235520" y="4402080"/>
                  <a:ext cx="41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 flipH="1">
                <a:off x="1088280" y="4403520"/>
                <a:ext cx="48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1530360" y="4412160"/>
              <a:ext cx="110160" cy="83520"/>
              <a:chOff x="1530360" y="4412160"/>
              <a:chExt cx="110160" cy="83520"/>
            </a:xfrm>
          </p:grpSpPr>
          <p:sp>
            <p:nvSpPr>
              <p:cNvPr id="629" name=""/>
              <p:cNvSpPr/>
              <p:nvPr/>
            </p:nvSpPr>
            <p:spPr>
              <a:xfrm>
                <a:off x="1530360" y="4412160"/>
                <a:ext cx="11016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50160" y="4425480"/>
                <a:ext cx="7272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572840" y="4443840"/>
                <a:ext cx="2484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1690920" y="4413600"/>
              <a:ext cx="6768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3" name=""/>
            <p:cNvGraphicFramePr/>
            <p:nvPr/>
          </p:nvGraphicFramePr>
          <p:xfrm>
            <a:off x="1084680" y="4267080"/>
            <a:ext cx="601920" cy="12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84680" y="4267080"/>
                      <a:ext cx="60192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5" name=""/>
            <p:cNvGraphicFramePr/>
            <p:nvPr/>
          </p:nvGraphicFramePr>
          <p:xfrm>
            <a:off x="1735920" y="4270680"/>
            <a:ext cx="601920" cy="12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35920" y="4270680"/>
                      <a:ext cx="60192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7" name=""/>
          <p:cNvGrpSpPr/>
          <p:nvPr/>
        </p:nvGrpSpPr>
        <p:grpSpPr>
          <a:xfrm>
            <a:off x="4724280" y="4114800"/>
            <a:ext cx="1523880" cy="228600"/>
            <a:chOff x="4724280" y="4114800"/>
            <a:chExt cx="1523880" cy="228600"/>
          </a:xfrm>
        </p:grpSpPr>
        <p:pic>
          <p:nvPicPr>
            <p:cNvPr id="638" name="" descr=""/>
            <p:cNvPicPr/>
            <p:nvPr/>
          </p:nvPicPr>
          <p:blipFill>
            <a:blip r:embed="rId7"/>
            <a:stretch/>
          </p:blipFill>
          <p:spPr>
            <a:xfrm>
              <a:off x="5029560" y="4185000"/>
              <a:ext cx="67320" cy="7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9" name=""/>
            <p:cNvGrpSpPr/>
            <p:nvPr/>
          </p:nvGrpSpPr>
          <p:grpSpPr>
            <a:xfrm>
              <a:off x="5407200" y="4129920"/>
              <a:ext cx="840960" cy="210960"/>
              <a:chOff x="5407200" y="4129920"/>
              <a:chExt cx="840960" cy="210960"/>
            </a:xfrm>
          </p:grpSpPr>
          <p:sp>
            <p:nvSpPr>
              <p:cNvPr id="640" name=""/>
              <p:cNvSpPr/>
              <p:nvPr/>
            </p:nvSpPr>
            <p:spPr>
              <a:xfrm>
                <a:off x="5466240" y="4246200"/>
                <a:ext cx="41868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5914800" y="4144680"/>
                <a:ext cx="40320" cy="115560"/>
                <a:chOff x="5914800" y="4144680"/>
                <a:chExt cx="40320" cy="115560"/>
              </a:xfrm>
            </p:grpSpPr>
            <p:grpSp>
              <p:nvGrpSpPr>
                <p:cNvPr id="642" name=""/>
                <p:cNvGrpSpPr/>
                <p:nvPr/>
              </p:nvGrpSpPr>
              <p:grpSpPr>
                <a:xfrm>
                  <a:off x="5920560" y="4144680"/>
                  <a:ext cx="34560" cy="115560"/>
                  <a:chOff x="5920560" y="4144680"/>
                  <a:chExt cx="34560" cy="1155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5920920" y="4167720"/>
                    <a:ext cx="34200" cy="85320"/>
                  </a:xfrm>
                  <a:prstGeom prst="rect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V="1">
                    <a:off x="5920560" y="4144680"/>
                    <a:ext cx="34560" cy="18720"/>
                  </a:xfrm>
                  <a:custGeom>
                    <a:avLst/>
                    <a:gdLst>
                      <a:gd name="textAreaLeft" fmla="*/ 5040 w 34560"/>
                      <a:gd name="textAreaRight" fmla="*/ 29520 w 34560"/>
                      <a:gd name="textAreaTop" fmla="*/ 2520 h 18720"/>
                      <a:gd name="textAreaBottom" fmla="*/ 16200 h 1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01" y="21600"/>
                        </a:lnTo>
                        <a:lnTo>
                          <a:pt x="2699" y="21600"/>
                        </a:lnTo>
                        <a:close/>
                      </a:path>
                    </a:pathLst>
                  </a:cu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5926320" y="4144680"/>
                    <a:ext cx="27360" cy="115560"/>
                    <a:chOff x="5926320" y="4144680"/>
                    <a:chExt cx="27360" cy="11556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5928840" y="4256280"/>
                      <a:ext cx="2052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5932800" y="4155480"/>
                      <a:ext cx="11160" cy="3924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5929560" y="4197960"/>
                      <a:ext cx="17280" cy="5580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5932800" y="4234680"/>
                      <a:ext cx="2088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5946840" y="4188960"/>
                      <a:ext cx="0" cy="66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flipV="1" rot="10800000">
                      <a:off x="5926320" y="4144680"/>
                      <a:ext cx="23760" cy="15120"/>
                    </a:xfrm>
                    <a:custGeom>
                      <a:avLst/>
                      <a:gdLst>
                        <a:gd name="textAreaLeft" fmla="*/ 4680 w 23760"/>
                        <a:gd name="textAreaRight" fmla="*/ 19080 w 23760"/>
                        <a:gd name="textAreaTop" fmla="*/ 2880 h 15120"/>
                        <a:gd name="textAreaBottom" fmla="*/ 12240 h 15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692" y="21600"/>
                          </a:lnTo>
                          <a:lnTo>
                            <a:pt x="4908" y="2160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5929560" y="4155840"/>
                      <a:ext cx="18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3" name=""/>
                  <p:cNvSpPr/>
                  <p:nvPr/>
                </p:nvSpPr>
                <p:spPr>
                  <a:xfrm>
                    <a:off x="5925600" y="416556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949360" y="416556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" name=""/>
                <p:cNvSpPr/>
                <p:nvPr/>
              </p:nvSpPr>
              <p:spPr>
                <a:xfrm>
                  <a:off x="5914800" y="4206600"/>
                  <a:ext cx="4680" cy="464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5983200" y="4129920"/>
                <a:ext cx="92160" cy="89640"/>
                <a:chOff x="5983200" y="4129920"/>
                <a:chExt cx="92160" cy="896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5983200" y="412992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999400" y="414432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018840" y="416412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>
                <a:off x="6047640" y="4247280"/>
                <a:ext cx="93240" cy="4032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970960" y="418572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987520" y="418572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17760" y="4177800"/>
                <a:ext cx="74160" cy="6696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5983560" y="4142160"/>
                <a:ext cx="59040" cy="7920"/>
                <a:chOff x="5983560" y="4142160"/>
                <a:chExt cx="59040" cy="79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5983560" y="415008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83560" y="414216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>
                <a:off x="5438880" y="4281120"/>
                <a:ext cx="4536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07200" y="4257720"/>
                <a:ext cx="5562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993640" y="4166280"/>
                <a:ext cx="23400" cy="75600"/>
              </a:xfrm>
              <a:custGeom>
                <a:avLst/>
                <a:gdLst/>
                <a:ahLst/>
                <a:rect l="l" t="t" r="r" b="b"/>
                <a:pathLst>
                  <a:path w="44" h="148">
                    <a:moveTo>
                      <a:pt x="43" y="0"/>
                    </a:moveTo>
                    <a:lnTo>
                      <a:pt x="43" y="147"/>
                    </a:lnTo>
                    <a:lnTo>
                      <a:pt x="17" y="147"/>
                    </a:lnTo>
                    <a:lnTo>
                      <a:pt x="17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17760" y="4141440"/>
                <a:ext cx="73440" cy="334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969160" y="4196880"/>
                <a:ext cx="31320" cy="4752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10760" y="4242600"/>
                <a:ext cx="249120" cy="24480"/>
              </a:xfrm>
              <a:prstGeom prst="rect">
                <a:avLst/>
              </a:prstGeom>
              <a:solidFill>
                <a:srgbClr val="47474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970960" y="415368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29480" y="4266720"/>
                <a:ext cx="231480" cy="23400"/>
              </a:xfrm>
              <a:custGeom>
                <a:avLst/>
                <a:gdLst/>
                <a:ahLst/>
                <a:rect l="l" t="t" r="r" b="b"/>
                <a:pathLst>
                  <a:path w="434" h="46">
                    <a:moveTo>
                      <a:pt x="433" y="0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433" y="45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967000" y="4147200"/>
                <a:ext cx="9000" cy="2592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16" y="0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16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5981760" y="4142520"/>
                <a:ext cx="14760" cy="25920"/>
                <a:chOff x="5981760" y="4142520"/>
                <a:chExt cx="14760" cy="2592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981760" y="4154040"/>
                  <a:ext cx="14760" cy="14400"/>
                </a:xfrm>
                <a:prstGeom prst="ellipse">
                  <a:avLst/>
                </a:prstGeom>
                <a:solidFill>
                  <a:srgbClr val="767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986080" y="4142520"/>
                  <a:ext cx="6120" cy="19080"/>
                </a:xfrm>
                <a:prstGeom prst="rect">
                  <a:avLst/>
                </a:prstGeom>
                <a:solidFill>
                  <a:srgbClr val="3165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6018480" y="4196520"/>
                <a:ext cx="73440" cy="21960"/>
              </a:xfrm>
              <a:prstGeom prst="rect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019560" y="4143600"/>
                <a:ext cx="28800" cy="3168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010920" y="4241880"/>
                <a:ext cx="36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012000" y="4254480"/>
                <a:ext cx="4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6024960" y="4251240"/>
                <a:ext cx="92160" cy="89640"/>
                <a:chOff x="6024960" y="4251240"/>
                <a:chExt cx="92160" cy="89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6024960" y="425124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041160" y="426564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060600" y="428544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5831640" y="4242600"/>
                <a:ext cx="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33440" y="4260960"/>
                <a:ext cx="17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5912640" y="4251240"/>
                <a:ext cx="92160" cy="89640"/>
                <a:chOff x="5912640" y="4251240"/>
                <a:chExt cx="92160" cy="8964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912640" y="425124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929200" y="426564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948280" y="428544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5470560" y="4248360"/>
                <a:ext cx="92160" cy="89280"/>
                <a:chOff x="5470560" y="4248360"/>
                <a:chExt cx="92160" cy="892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470560" y="424836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487120" y="426240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06200" y="428256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022800" y="4244040"/>
                <a:ext cx="6840" cy="7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01000" y="4281480"/>
                <a:ext cx="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085800" y="4141440"/>
                <a:ext cx="124920" cy="13680"/>
              </a:xfrm>
              <a:custGeom>
                <a:avLst/>
                <a:gdLst/>
                <a:ahLst/>
                <a:rect l="l" t="t" r="r" b="b"/>
                <a:pathLst>
                  <a:path w="234" h="27">
                    <a:moveTo>
                      <a:pt x="3" y="26"/>
                    </a:moveTo>
                    <a:lnTo>
                      <a:pt x="219" y="26"/>
                    </a:lnTo>
                    <a:lnTo>
                      <a:pt x="233" y="0"/>
                    </a:lnTo>
                    <a:lnTo>
                      <a:pt x="0" y="0"/>
                    </a:lnTo>
                    <a:lnTo>
                      <a:pt x="3" y="26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6206760" y="4191840"/>
                <a:ext cx="22320" cy="21960"/>
                <a:chOff x="6206760" y="4191840"/>
                <a:chExt cx="22320" cy="21960"/>
              </a:xfrm>
            </p:grpSpPr>
            <p:sp>
              <p:nvSpPr>
                <p:cNvPr id="701" name=""/>
                <p:cNvSpPr/>
                <p:nvPr/>
              </p:nvSpPr>
              <p:spPr>
                <a:xfrm flipH="1">
                  <a:off x="6206760" y="4191840"/>
                  <a:ext cx="15840" cy="1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215040" y="4200120"/>
                  <a:ext cx="14040" cy="1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"/>
              <p:cNvSpPr/>
              <p:nvPr/>
            </p:nvSpPr>
            <p:spPr>
              <a:xfrm>
                <a:off x="6088320" y="4154760"/>
                <a:ext cx="159840" cy="129960"/>
              </a:xfrm>
              <a:custGeom>
                <a:avLst/>
                <a:gdLst/>
                <a:ahLst/>
                <a:rect l="l" t="t" r="r" b="b"/>
                <a:pathLst>
                  <a:path w="300" h="254">
                    <a:moveTo>
                      <a:pt x="0" y="0"/>
                    </a:moveTo>
                    <a:lnTo>
                      <a:pt x="0" y="18"/>
                    </a:lnTo>
                    <a:lnTo>
                      <a:pt x="0" y="168"/>
                    </a:lnTo>
                    <a:lnTo>
                      <a:pt x="85" y="251"/>
                    </a:lnTo>
                    <a:lnTo>
                      <a:pt x="204" y="253"/>
                    </a:lnTo>
                    <a:lnTo>
                      <a:pt x="299" y="159"/>
                    </a:lnTo>
                    <a:lnTo>
                      <a:pt x="299" y="92"/>
                    </a:lnTo>
                    <a:lnTo>
                      <a:pt x="86" y="90"/>
                    </a:lnTo>
                    <a:lnTo>
                      <a:pt x="86" y="21"/>
                    </a:lnTo>
                    <a:lnTo>
                      <a:pt x="189" y="21"/>
                    </a:lnTo>
                    <a:lnTo>
                      <a:pt x="189" y="87"/>
                    </a:lnTo>
                    <a:lnTo>
                      <a:pt x="203" y="87"/>
                    </a:lnTo>
                    <a:lnTo>
                      <a:pt x="203" y="21"/>
                    </a:lnTo>
                    <a:lnTo>
                      <a:pt x="224" y="21"/>
                    </a:lnTo>
                    <a:lnTo>
                      <a:pt x="281" y="85"/>
                    </a:lnTo>
                    <a:lnTo>
                      <a:pt x="291" y="85"/>
                    </a:lnTo>
                    <a:lnTo>
                      <a:pt x="2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237000" y="4201560"/>
                <a:ext cx="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42040" y="4201560"/>
                <a:ext cx="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22160" y="415476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15680" y="415476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94800" y="4154760"/>
                <a:ext cx="0" cy="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130080" y="4279320"/>
                <a:ext cx="7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54560" y="4286520"/>
                <a:ext cx="16200" cy="2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54560" y="4299840"/>
                <a:ext cx="1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5576400" y="4248360"/>
                <a:ext cx="92160" cy="89280"/>
                <a:chOff x="5576400" y="4248360"/>
                <a:chExt cx="92160" cy="892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576400" y="424836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592960" y="426240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12040" y="428256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5695200" y="4241880"/>
                <a:ext cx="169200" cy="58680"/>
                <a:chOff x="5695200" y="4241880"/>
                <a:chExt cx="169200" cy="5868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5819040" y="4277880"/>
                  <a:ext cx="4536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819040" y="4252320"/>
                  <a:ext cx="45360" cy="1908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95200" y="4245120"/>
                  <a:ext cx="99360" cy="48960"/>
                </a:xfrm>
                <a:custGeom>
                  <a:avLst/>
                  <a:gdLst/>
                  <a:ahLst/>
                  <a:rect l="l" t="t" r="r" b="b"/>
                  <a:pathLst>
                    <a:path w="186" h="96">
                      <a:moveTo>
                        <a:pt x="185" y="0"/>
                      </a:moveTo>
                      <a:lnTo>
                        <a:pt x="0" y="0"/>
                      </a:lnTo>
                      <a:lnTo>
                        <a:pt x="0" y="95"/>
                      </a:lnTo>
                      <a:lnTo>
                        <a:pt x="185" y="95"/>
                      </a:lnTo>
                      <a:lnTo>
                        <a:pt x="185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727600" y="424188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96280" y="429264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783040" y="429264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705640" y="42458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11040" y="42458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777640" y="42458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83040" y="42458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758560" y="4258080"/>
                  <a:ext cx="1260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6057720" y="4146840"/>
                <a:ext cx="20520" cy="20880"/>
              </a:xfrm>
              <a:prstGeom prst="ellipse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4786920" y="4257360"/>
              <a:ext cx="49896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54880" y="4289760"/>
              <a:ext cx="5400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24280" y="4265280"/>
              <a:ext cx="641160" cy="226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221440" y="42548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4730040" y="4259880"/>
              <a:ext cx="109440" cy="83520"/>
              <a:chOff x="4730040" y="4259880"/>
              <a:chExt cx="109440" cy="83520"/>
            </a:xfrm>
          </p:grpSpPr>
          <p:sp>
            <p:nvSpPr>
              <p:cNvPr id="734" name=""/>
              <p:cNvSpPr/>
              <p:nvPr/>
            </p:nvSpPr>
            <p:spPr>
              <a:xfrm>
                <a:off x="4730040" y="425988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749480" y="427320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772520" y="429156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4865040" y="4259880"/>
              <a:ext cx="109440" cy="83520"/>
              <a:chOff x="4865040" y="4259880"/>
              <a:chExt cx="109440" cy="83520"/>
            </a:xfrm>
          </p:grpSpPr>
          <p:sp>
            <p:nvSpPr>
              <p:cNvPr id="738" name=""/>
              <p:cNvSpPr/>
              <p:nvPr/>
            </p:nvSpPr>
            <p:spPr>
              <a:xfrm>
                <a:off x="4865040" y="425988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884480" y="427320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907520" y="429156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5060160" y="4253400"/>
              <a:ext cx="201600" cy="55080"/>
              <a:chOff x="5060160" y="4253400"/>
              <a:chExt cx="201600" cy="55080"/>
            </a:xfrm>
          </p:grpSpPr>
          <p:sp>
            <p:nvSpPr>
              <p:cNvPr id="742" name=""/>
              <p:cNvSpPr/>
              <p:nvPr/>
            </p:nvSpPr>
            <p:spPr>
              <a:xfrm>
                <a:off x="5207760" y="4286880"/>
                <a:ext cx="54000" cy="111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207760" y="4263120"/>
                <a:ext cx="54000" cy="180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060160" y="4256640"/>
                <a:ext cx="118080" cy="45360"/>
              </a:xfrm>
              <a:custGeom>
                <a:avLst/>
                <a:gdLst/>
                <a:ahLst/>
                <a:rect l="l" t="t" r="r" b="b"/>
                <a:pathLst>
                  <a:path w="186" h="96">
                    <a:moveTo>
                      <a:pt x="185" y="0"/>
                    </a:moveTo>
                    <a:lnTo>
                      <a:pt x="0" y="0"/>
                    </a:lnTo>
                    <a:lnTo>
                      <a:pt x="0" y="95"/>
                    </a:lnTo>
                    <a:lnTo>
                      <a:pt x="185" y="95"/>
                    </a:lnTo>
                    <a:lnTo>
                      <a:pt x="185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098680" y="425340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61240" y="430092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164920" y="430092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72760" y="425700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078880" y="425700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58440" y="425700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164920" y="425700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135760" y="4268520"/>
                <a:ext cx="1512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4739400" y="4131720"/>
              <a:ext cx="633240" cy="119520"/>
              <a:chOff x="4739400" y="4131720"/>
              <a:chExt cx="633240" cy="11952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4741560" y="4131720"/>
                <a:ext cx="631080" cy="115560"/>
                <a:chOff x="4741560" y="4131720"/>
                <a:chExt cx="631080" cy="11556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5301720" y="4131720"/>
                  <a:ext cx="70920" cy="113760"/>
                  <a:chOff x="5301720" y="4131720"/>
                  <a:chExt cx="70920" cy="11376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 rot="360000">
                    <a:off x="5322600" y="4133880"/>
                    <a:ext cx="47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>
                    <a:off x="5301720" y="4151520"/>
                    <a:ext cx="20160" cy="9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5305680" y="4151520"/>
                    <a:ext cx="1908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rot="360000">
                    <a:off x="5324400" y="4135680"/>
                    <a:ext cx="410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42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425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0" name=""/>
                <p:cNvSpPr/>
                <p:nvPr/>
              </p:nvSpPr>
              <p:spPr>
                <a:xfrm flipV="1">
                  <a:off x="4741560" y="4242960"/>
                  <a:ext cx="574920" cy="3960"/>
                </a:xfrm>
                <a:custGeom>
                  <a:avLst/>
                  <a:gdLst>
                    <a:gd name="textAreaLeft" fmla="*/ 89640 w 574920"/>
                    <a:gd name="textAreaRight" fmla="*/ 485280 w 57492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887720" y="4242600"/>
                  <a:ext cx="41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895280" y="4244760"/>
                  <a:ext cx="41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739400" y="4135680"/>
                <a:ext cx="631080" cy="115560"/>
                <a:chOff x="4739400" y="4135680"/>
                <a:chExt cx="631080" cy="115560"/>
              </a:xfrm>
            </p:grpSpPr>
            <p:grpSp>
              <p:nvGrpSpPr>
                <p:cNvPr id="764" name=""/>
                <p:cNvGrpSpPr/>
                <p:nvPr/>
              </p:nvGrpSpPr>
              <p:grpSpPr>
                <a:xfrm>
                  <a:off x="5300280" y="4135680"/>
                  <a:ext cx="70200" cy="114480"/>
                  <a:chOff x="5300280" y="4135680"/>
                  <a:chExt cx="70200" cy="11448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rot="360000">
                    <a:off x="5320440" y="4137840"/>
                    <a:ext cx="47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5300280" y="4155840"/>
                    <a:ext cx="2016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>
                    <a:off x="5303520" y="4155840"/>
                    <a:ext cx="19800" cy="9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rot="360000">
                    <a:off x="5323680" y="4140720"/>
                    <a:ext cx="399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71"/>
                        </a:moveTo>
                        <a:arcTo wR="10800" hR="10800" stAng="-10727201" swAng="522258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71"/>
                        </a:moveTo>
                        <a:arcTo wR="10800" hR="10800" stAng="-10727201" swAng="522258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9" name=""/>
                <p:cNvSpPr/>
                <p:nvPr/>
              </p:nvSpPr>
              <p:spPr>
                <a:xfrm flipV="1">
                  <a:off x="4739400" y="4246920"/>
                  <a:ext cx="575640" cy="3960"/>
                </a:xfrm>
                <a:custGeom>
                  <a:avLst/>
                  <a:gdLst>
                    <a:gd name="textAreaLeft" fmla="*/ 89640 w 575640"/>
                    <a:gd name="textAreaRight" fmla="*/ 486000 w 57564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885560" y="4246920"/>
                  <a:ext cx="41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893120" y="4249800"/>
                  <a:ext cx="41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 flipH="1">
                <a:off x="4745880" y="4251240"/>
                <a:ext cx="48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5187960" y="4259880"/>
              <a:ext cx="110160" cy="83520"/>
              <a:chOff x="5187960" y="4259880"/>
              <a:chExt cx="110160" cy="83520"/>
            </a:xfrm>
          </p:grpSpPr>
          <p:sp>
            <p:nvSpPr>
              <p:cNvPr id="774" name=""/>
              <p:cNvSpPr/>
              <p:nvPr/>
            </p:nvSpPr>
            <p:spPr>
              <a:xfrm>
                <a:off x="5187960" y="4259880"/>
                <a:ext cx="11016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207760" y="4273200"/>
                <a:ext cx="7272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230440" y="4291560"/>
                <a:ext cx="2484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348520" y="4261320"/>
              <a:ext cx="6768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8" name=""/>
            <p:cNvGraphicFramePr/>
            <p:nvPr/>
          </p:nvGraphicFramePr>
          <p:xfrm>
            <a:off x="4742280" y="4114800"/>
            <a:ext cx="601920" cy="12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42280" y="4114800"/>
                      <a:ext cx="60192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0" name=""/>
            <p:cNvGraphicFramePr/>
            <p:nvPr/>
          </p:nvGraphicFramePr>
          <p:xfrm>
            <a:off x="5393520" y="4118400"/>
            <a:ext cx="601920" cy="126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93520" y="4118400"/>
                      <a:ext cx="60192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2" name=""/>
          <p:cNvGrpSpPr/>
          <p:nvPr/>
        </p:nvGrpSpPr>
        <p:grpSpPr>
          <a:xfrm>
            <a:off x="4952880" y="3352680"/>
            <a:ext cx="1523880" cy="228600"/>
            <a:chOff x="4952880" y="3352680"/>
            <a:chExt cx="1523880" cy="228600"/>
          </a:xfrm>
        </p:grpSpPr>
        <p:pic>
          <p:nvPicPr>
            <p:cNvPr id="783" name="" descr=""/>
            <p:cNvPicPr/>
            <p:nvPr/>
          </p:nvPicPr>
          <p:blipFill>
            <a:blip r:embed="rId13"/>
            <a:stretch/>
          </p:blipFill>
          <p:spPr>
            <a:xfrm>
              <a:off x="5258160" y="3422880"/>
              <a:ext cx="67320" cy="7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4" name=""/>
            <p:cNvGrpSpPr/>
            <p:nvPr/>
          </p:nvGrpSpPr>
          <p:grpSpPr>
            <a:xfrm>
              <a:off x="5635800" y="3367800"/>
              <a:ext cx="840960" cy="210960"/>
              <a:chOff x="5635800" y="3367800"/>
              <a:chExt cx="840960" cy="210960"/>
            </a:xfrm>
          </p:grpSpPr>
          <p:sp>
            <p:nvSpPr>
              <p:cNvPr id="785" name=""/>
              <p:cNvSpPr/>
              <p:nvPr/>
            </p:nvSpPr>
            <p:spPr>
              <a:xfrm>
                <a:off x="5694840" y="3484080"/>
                <a:ext cx="41868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6143400" y="3382560"/>
                <a:ext cx="40320" cy="115560"/>
                <a:chOff x="6143400" y="3382560"/>
                <a:chExt cx="40320" cy="11556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6149160" y="3382560"/>
                  <a:ext cx="34560" cy="115560"/>
                  <a:chOff x="6149160" y="3382560"/>
                  <a:chExt cx="34560" cy="11556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6149520" y="3405600"/>
                    <a:ext cx="34200" cy="85320"/>
                  </a:xfrm>
                  <a:prstGeom prst="rect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V="1">
                    <a:off x="6149160" y="3382560"/>
                    <a:ext cx="34560" cy="18720"/>
                  </a:xfrm>
                  <a:custGeom>
                    <a:avLst/>
                    <a:gdLst>
                      <a:gd name="textAreaLeft" fmla="*/ 5040 w 34560"/>
                      <a:gd name="textAreaRight" fmla="*/ 29520 w 34560"/>
                      <a:gd name="textAreaTop" fmla="*/ 2520 h 18720"/>
                      <a:gd name="textAreaBottom" fmla="*/ 16200 h 1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01" y="21600"/>
                        </a:lnTo>
                        <a:lnTo>
                          <a:pt x="2699" y="21600"/>
                        </a:lnTo>
                        <a:close/>
                      </a:path>
                    </a:pathLst>
                  </a:cu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0" name=""/>
                  <p:cNvGrpSpPr/>
                  <p:nvPr/>
                </p:nvGrpSpPr>
                <p:grpSpPr>
                  <a:xfrm>
                    <a:off x="6154920" y="3382560"/>
                    <a:ext cx="27360" cy="115560"/>
                    <a:chOff x="6154920" y="3382560"/>
                    <a:chExt cx="27360" cy="115560"/>
                  </a:xfrm>
                </p:grpSpPr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6157440" y="3494160"/>
                      <a:ext cx="2052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6161400" y="3393360"/>
                      <a:ext cx="11160" cy="3924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6158160" y="3435840"/>
                      <a:ext cx="17280" cy="5580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6161400" y="3472560"/>
                      <a:ext cx="2088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6175440" y="3426840"/>
                      <a:ext cx="0" cy="66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flipH="1" flipV="1" rot="10800000">
                      <a:off x="6154920" y="3382560"/>
                      <a:ext cx="23760" cy="15120"/>
                    </a:xfrm>
                    <a:custGeom>
                      <a:avLst/>
                      <a:gdLst>
                        <a:gd name="textAreaLeft" fmla="*/ 4680 w 23760"/>
                        <a:gd name="textAreaRight" fmla="*/ 19080 w 23760"/>
                        <a:gd name="textAreaTop" fmla="*/ 2880 h 15120"/>
                        <a:gd name="textAreaBottom" fmla="*/ 12240 h 15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692" y="21600"/>
                          </a:lnTo>
                          <a:lnTo>
                            <a:pt x="4908" y="2160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6158160" y="3393720"/>
                      <a:ext cx="18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8" name=""/>
                  <p:cNvSpPr/>
                  <p:nvPr/>
                </p:nvSpPr>
                <p:spPr>
                  <a:xfrm>
                    <a:off x="6154200" y="34034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177960" y="340344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6143400" y="3444480"/>
                  <a:ext cx="4680" cy="464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6211800" y="3367800"/>
                <a:ext cx="92160" cy="89640"/>
                <a:chOff x="6211800" y="3367800"/>
                <a:chExt cx="92160" cy="8964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6211800" y="336780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228000" y="338220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247440" y="340200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"/>
              <p:cNvSpPr/>
              <p:nvPr/>
            </p:nvSpPr>
            <p:spPr>
              <a:xfrm>
                <a:off x="6276240" y="3485160"/>
                <a:ext cx="93240" cy="4032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199560" y="342360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16120" y="342360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46360" y="3415680"/>
                <a:ext cx="74160" cy="6696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6212160" y="3380040"/>
                <a:ext cx="59040" cy="7920"/>
                <a:chOff x="6212160" y="3380040"/>
                <a:chExt cx="59040" cy="792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6212160" y="338796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212160" y="338004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2" name=""/>
              <p:cNvSpPr/>
              <p:nvPr/>
            </p:nvSpPr>
            <p:spPr>
              <a:xfrm>
                <a:off x="5667480" y="3519000"/>
                <a:ext cx="4536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3495600"/>
                <a:ext cx="5562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222240" y="3404160"/>
                <a:ext cx="23400" cy="75600"/>
              </a:xfrm>
              <a:custGeom>
                <a:avLst/>
                <a:gdLst/>
                <a:ahLst/>
                <a:rect l="l" t="t" r="r" b="b"/>
                <a:pathLst>
                  <a:path w="44" h="148">
                    <a:moveTo>
                      <a:pt x="43" y="0"/>
                    </a:moveTo>
                    <a:lnTo>
                      <a:pt x="43" y="147"/>
                    </a:lnTo>
                    <a:lnTo>
                      <a:pt x="17" y="147"/>
                    </a:lnTo>
                    <a:lnTo>
                      <a:pt x="17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46360" y="3379320"/>
                <a:ext cx="73440" cy="334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197760" y="3434760"/>
                <a:ext cx="31320" cy="4752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039360" y="3480480"/>
                <a:ext cx="249120" cy="24480"/>
              </a:xfrm>
              <a:prstGeom prst="rect">
                <a:avLst/>
              </a:prstGeom>
              <a:solidFill>
                <a:srgbClr val="47474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99560" y="339156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058080" y="3504600"/>
                <a:ext cx="231480" cy="23400"/>
              </a:xfrm>
              <a:custGeom>
                <a:avLst/>
                <a:gdLst/>
                <a:ahLst/>
                <a:rect l="l" t="t" r="r" b="b"/>
                <a:pathLst>
                  <a:path w="434" h="46">
                    <a:moveTo>
                      <a:pt x="433" y="0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433" y="45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195600" y="3385080"/>
                <a:ext cx="9000" cy="2592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16" y="0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16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6210360" y="3380400"/>
                <a:ext cx="14760" cy="25920"/>
                <a:chOff x="6210360" y="3380400"/>
                <a:chExt cx="14760" cy="2592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6210360" y="3391920"/>
                  <a:ext cx="14760" cy="14400"/>
                </a:xfrm>
                <a:prstGeom prst="ellipse">
                  <a:avLst/>
                </a:prstGeom>
                <a:solidFill>
                  <a:srgbClr val="767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214680" y="3380400"/>
                  <a:ext cx="6120" cy="19080"/>
                </a:xfrm>
                <a:prstGeom prst="rect">
                  <a:avLst/>
                </a:prstGeom>
                <a:solidFill>
                  <a:srgbClr val="3165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4" name=""/>
              <p:cNvSpPr/>
              <p:nvPr/>
            </p:nvSpPr>
            <p:spPr>
              <a:xfrm>
                <a:off x="6247080" y="3434400"/>
                <a:ext cx="73440" cy="21960"/>
              </a:xfrm>
              <a:prstGeom prst="rect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48160" y="3381480"/>
                <a:ext cx="28800" cy="3168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39520" y="3479760"/>
                <a:ext cx="36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240600" y="3492360"/>
                <a:ext cx="4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8" name=""/>
              <p:cNvGrpSpPr/>
              <p:nvPr/>
            </p:nvGrpSpPr>
            <p:grpSpPr>
              <a:xfrm>
                <a:off x="6253560" y="3489120"/>
                <a:ext cx="92160" cy="89640"/>
                <a:chOff x="6253560" y="3489120"/>
                <a:chExt cx="92160" cy="896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6253560" y="348912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269760" y="350352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289200" y="352332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>
                <a:off x="6060240" y="3480480"/>
                <a:ext cx="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062040" y="3498840"/>
                <a:ext cx="17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6141240" y="3489120"/>
                <a:ext cx="92160" cy="89640"/>
                <a:chOff x="6141240" y="3489120"/>
                <a:chExt cx="92160" cy="896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6141240" y="348912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157800" y="350352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176880" y="352332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699160" y="3486240"/>
                <a:ext cx="92160" cy="89280"/>
                <a:chOff x="5699160" y="3486240"/>
                <a:chExt cx="92160" cy="8928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699160" y="348624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5720" y="350028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734800" y="352044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6251400" y="3481920"/>
                <a:ext cx="6840" cy="7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9600" y="3519360"/>
                <a:ext cx="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314400" y="3379320"/>
                <a:ext cx="124920" cy="13680"/>
              </a:xfrm>
              <a:custGeom>
                <a:avLst/>
                <a:gdLst/>
                <a:ahLst/>
                <a:rect l="l" t="t" r="r" b="b"/>
                <a:pathLst>
                  <a:path w="234" h="27">
                    <a:moveTo>
                      <a:pt x="3" y="26"/>
                    </a:moveTo>
                    <a:lnTo>
                      <a:pt x="219" y="26"/>
                    </a:lnTo>
                    <a:lnTo>
                      <a:pt x="233" y="0"/>
                    </a:lnTo>
                    <a:lnTo>
                      <a:pt x="0" y="0"/>
                    </a:lnTo>
                    <a:lnTo>
                      <a:pt x="3" y="26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6435360" y="3429720"/>
                <a:ext cx="22320" cy="21960"/>
                <a:chOff x="6435360" y="3429720"/>
                <a:chExt cx="22320" cy="21960"/>
              </a:xfrm>
            </p:grpSpPr>
            <p:sp>
              <p:nvSpPr>
                <p:cNvPr id="846" name=""/>
                <p:cNvSpPr/>
                <p:nvPr/>
              </p:nvSpPr>
              <p:spPr>
                <a:xfrm flipH="1">
                  <a:off x="6435360" y="3429720"/>
                  <a:ext cx="15840" cy="1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443640" y="3438000"/>
                  <a:ext cx="14040" cy="1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"/>
              <p:cNvSpPr/>
              <p:nvPr/>
            </p:nvSpPr>
            <p:spPr>
              <a:xfrm>
                <a:off x="6316920" y="3392640"/>
                <a:ext cx="159840" cy="129960"/>
              </a:xfrm>
              <a:custGeom>
                <a:avLst/>
                <a:gdLst/>
                <a:ahLst/>
                <a:rect l="l" t="t" r="r" b="b"/>
                <a:pathLst>
                  <a:path w="300" h="254">
                    <a:moveTo>
                      <a:pt x="0" y="0"/>
                    </a:moveTo>
                    <a:lnTo>
                      <a:pt x="0" y="18"/>
                    </a:lnTo>
                    <a:lnTo>
                      <a:pt x="0" y="168"/>
                    </a:lnTo>
                    <a:lnTo>
                      <a:pt x="85" y="251"/>
                    </a:lnTo>
                    <a:lnTo>
                      <a:pt x="204" y="253"/>
                    </a:lnTo>
                    <a:lnTo>
                      <a:pt x="299" y="159"/>
                    </a:lnTo>
                    <a:lnTo>
                      <a:pt x="299" y="92"/>
                    </a:lnTo>
                    <a:lnTo>
                      <a:pt x="86" y="90"/>
                    </a:lnTo>
                    <a:lnTo>
                      <a:pt x="86" y="21"/>
                    </a:lnTo>
                    <a:lnTo>
                      <a:pt x="189" y="21"/>
                    </a:lnTo>
                    <a:lnTo>
                      <a:pt x="189" y="87"/>
                    </a:lnTo>
                    <a:lnTo>
                      <a:pt x="203" y="87"/>
                    </a:lnTo>
                    <a:lnTo>
                      <a:pt x="203" y="21"/>
                    </a:lnTo>
                    <a:lnTo>
                      <a:pt x="224" y="21"/>
                    </a:lnTo>
                    <a:lnTo>
                      <a:pt x="281" y="85"/>
                    </a:lnTo>
                    <a:lnTo>
                      <a:pt x="291" y="85"/>
                    </a:lnTo>
                    <a:lnTo>
                      <a:pt x="2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65600" y="3439440"/>
                <a:ext cx="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470640" y="3439440"/>
                <a:ext cx="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350760" y="339264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44280" y="339264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23400" y="3392640"/>
                <a:ext cx="0" cy="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58680" y="3517200"/>
                <a:ext cx="7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383160" y="3524400"/>
                <a:ext cx="16200" cy="2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383160" y="3537720"/>
                <a:ext cx="1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5805000" y="3486240"/>
                <a:ext cx="92160" cy="89280"/>
                <a:chOff x="5805000" y="3486240"/>
                <a:chExt cx="92160" cy="8928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5805000" y="348624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821560" y="350028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840640" y="352044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5923800" y="3479760"/>
                <a:ext cx="169200" cy="58680"/>
                <a:chOff x="5923800" y="3479760"/>
                <a:chExt cx="169200" cy="5868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6047640" y="3515760"/>
                  <a:ext cx="4536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047640" y="3490200"/>
                  <a:ext cx="45360" cy="1908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923800" y="3483000"/>
                  <a:ext cx="99360" cy="48960"/>
                </a:xfrm>
                <a:custGeom>
                  <a:avLst/>
                  <a:gdLst/>
                  <a:ahLst/>
                  <a:rect l="l" t="t" r="r" b="b"/>
                  <a:pathLst>
                    <a:path w="186" h="96">
                      <a:moveTo>
                        <a:pt x="185" y="0"/>
                      </a:moveTo>
                      <a:lnTo>
                        <a:pt x="0" y="0"/>
                      </a:lnTo>
                      <a:lnTo>
                        <a:pt x="0" y="95"/>
                      </a:lnTo>
                      <a:lnTo>
                        <a:pt x="185" y="95"/>
                      </a:lnTo>
                      <a:lnTo>
                        <a:pt x="185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956200" y="347976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924880" y="353052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011640" y="353052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934240" y="348372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939640" y="348372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006240" y="348372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011640" y="348372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987160" y="3495960"/>
                  <a:ext cx="1260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3" name=""/>
              <p:cNvSpPr/>
              <p:nvPr/>
            </p:nvSpPr>
            <p:spPr>
              <a:xfrm>
                <a:off x="6286320" y="3384720"/>
                <a:ext cx="20520" cy="20880"/>
              </a:xfrm>
              <a:prstGeom prst="ellipse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5015520" y="3495240"/>
              <a:ext cx="49896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983480" y="3527640"/>
              <a:ext cx="5400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952880" y="3503160"/>
              <a:ext cx="641160" cy="226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50040" y="349272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4958640" y="3497760"/>
              <a:ext cx="109440" cy="83520"/>
              <a:chOff x="4958640" y="3497760"/>
              <a:chExt cx="109440" cy="83520"/>
            </a:xfrm>
          </p:grpSpPr>
          <p:sp>
            <p:nvSpPr>
              <p:cNvPr id="879" name=""/>
              <p:cNvSpPr/>
              <p:nvPr/>
            </p:nvSpPr>
            <p:spPr>
              <a:xfrm>
                <a:off x="4958640" y="349776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978080" y="351108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001120" y="352944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093640" y="3497760"/>
              <a:ext cx="109440" cy="83520"/>
              <a:chOff x="5093640" y="3497760"/>
              <a:chExt cx="109440" cy="83520"/>
            </a:xfrm>
          </p:grpSpPr>
          <p:sp>
            <p:nvSpPr>
              <p:cNvPr id="883" name=""/>
              <p:cNvSpPr/>
              <p:nvPr/>
            </p:nvSpPr>
            <p:spPr>
              <a:xfrm>
                <a:off x="5093640" y="349776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113080" y="351108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136120" y="352944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5288760" y="3491280"/>
              <a:ext cx="201600" cy="55080"/>
              <a:chOff x="5288760" y="3491280"/>
              <a:chExt cx="201600" cy="55080"/>
            </a:xfrm>
          </p:grpSpPr>
          <p:sp>
            <p:nvSpPr>
              <p:cNvPr id="887" name=""/>
              <p:cNvSpPr/>
              <p:nvPr/>
            </p:nvSpPr>
            <p:spPr>
              <a:xfrm>
                <a:off x="5436360" y="3524760"/>
                <a:ext cx="54000" cy="111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436360" y="3501000"/>
                <a:ext cx="54000" cy="180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88760" y="3494520"/>
                <a:ext cx="118080" cy="45360"/>
              </a:xfrm>
              <a:custGeom>
                <a:avLst/>
                <a:gdLst/>
                <a:ahLst/>
                <a:rect l="l" t="t" r="r" b="b"/>
                <a:pathLst>
                  <a:path w="186" h="96">
                    <a:moveTo>
                      <a:pt x="185" y="0"/>
                    </a:moveTo>
                    <a:lnTo>
                      <a:pt x="0" y="0"/>
                    </a:lnTo>
                    <a:lnTo>
                      <a:pt x="0" y="95"/>
                    </a:lnTo>
                    <a:lnTo>
                      <a:pt x="185" y="95"/>
                    </a:lnTo>
                    <a:lnTo>
                      <a:pt x="185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327280" y="349128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289840" y="353880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393520" y="353880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301360" y="34948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307480" y="34948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387040" y="34948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393520" y="34948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364360" y="3506400"/>
                <a:ext cx="1512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4968000" y="3369600"/>
              <a:ext cx="633240" cy="119520"/>
              <a:chOff x="4968000" y="3369600"/>
              <a:chExt cx="633240" cy="119520"/>
            </a:xfrm>
          </p:grpSpPr>
          <p:grpSp>
            <p:nvGrpSpPr>
              <p:cNvPr id="899" name=""/>
              <p:cNvGrpSpPr/>
              <p:nvPr/>
            </p:nvGrpSpPr>
            <p:grpSpPr>
              <a:xfrm>
                <a:off x="4970160" y="3369600"/>
                <a:ext cx="631080" cy="115560"/>
                <a:chOff x="4970160" y="3369600"/>
                <a:chExt cx="631080" cy="115560"/>
              </a:xfrm>
            </p:grpSpPr>
            <p:grpSp>
              <p:nvGrpSpPr>
                <p:cNvPr id="900" name=""/>
                <p:cNvGrpSpPr/>
                <p:nvPr/>
              </p:nvGrpSpPr>
              <p:grpSpPr>
                <a:xfrm>
                  <a:off x="5530320" y="3369600"/>
                  <a:ext cx="70920" cy="113760"/>
                  <a:chOff x="5530320" y="3369600"/>
                  <a:chExt cx="70920" cy="11376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 rot="360000">
                    <a:off x="5551200" y="3371760"/>
                    <a:ext cx="47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5530320" y="3389400"/>
                    <a:ext cx="20160" cy="9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5534280" y="3389400"/>
                    <a:ext cx="1908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rot="360000">
                    <a:off x="5553000" y="3373560"/>
                    <a:ext cx="410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42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425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 flipV="1">
                  <a:off x="4970160" y="3480840"/>
                  <a:ext cx="574920" cy="3960"/>
                </a:xfrm>
                <a:custGeom>
                  <a:avLst/>
                  <a:gdLst>
                    <a:gd name="textAreaLeft" fmla="*/ 89640 w 574920"/>
                    <a:gd name="textAreaRight" fmla="*/ 485280 w 57492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116320" y="3480480"/>
                  <a:ext cx="41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123880" y="3482640"/>
                  <a:ext cx="41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4968000" y="3373560"/>
                <a:ext cx="631080" cy="115560"/>
                <a:chOff x="4968000" y="3373560"/>
                <a:chExt cx="631080" cy="115560"/>
              </a:xfrm>
            </p:grpSpPr>
            <p:grpSp>
              <p:nvGrpSpPr>
                <p:cNvPr id="909" name=""/>
                <p:cNvGrpSpPr/>
                <p:nvPr/>
              </p:nvGrpSpPr>
              <p:grpSpPr>
                <a:xfrm>
                  <a:off x="5528880" y="3373560"/>
                  <a:ext cx="70200" cy="114480"/>
                  <a:chOff x="5528880" y="3373560"/>
                  <a:chExt cx="70200" cy="11448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rot="360000">
                    <a:off x="5549040" y="3375720"/>
                    <a:ext cx="47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5528880" y="3393720"/>
                    <a:ext cx="2016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5532120" y="3393720"/>
                    <a:ext cx="19800" cy="9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360000">
                    <a:off x="5552280" y="3378600"/>
                    <a:ext cx="399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71"/>
                        </a:moveTo>
                        <a:arcTo wR="10800" hR="10800" stAng="-10727201" swAng="522258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71"/>
                        </a:moveTo>
                        <a:arcTo wR="10800" hR="10800" stAng="-10727201" swAng="522258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4" name=""/>
                <p:cNvSpPr/>
                <p:nvPr/>
              </p:nvSpPr>
              <p:spPr>
                <a:xfrm flipV="1">
                  <a:off x="4968000" y="3484800"/>
                  <a:ext cx="575640" cy="3960"/>
                </a:xfrm>
                <a:custGeom>
                  <a:avLst/>
                  <a:gdLst>
                    <a:gd name="textAreaLeft" fmla="*/ 89640 w 575640"/>
                    <a:gd name="textAreaRight" fmla="*/ 486000 w 57564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114160" y="3484800"/>
                  <a:ext cx="41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121720" y="3487680"/>
                  <a:ext cx="41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"/>
              <p:cNvSpPr/>
              <p:nvPr/>
            </p:nvSpPr>
            <p:spPr>
              <a:xfrm flipH="1">
                <a:off x="4974480" y="3489120"/>
                <a:ext cx="48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5416560" y="3497760"/>
              <a:ext cx="110160" cy="83520"/>
              <a:chOff x="5416560" y="3497760"/>
              <a:chExt cx="110160" cy="83520"/>
            </a:xfrm>
          </p:grpSpPr>
          <p:sp>
            <p:nvSpPr>
              <p:cNvPr id="919" name=""/>
              <p:cNvSpPr/>
              <p:nvPr/>
            </p:nvSpPr>
            <p:spPr>
              <a:xfrm>
                <a:off x="5416560" y="3497760"/>
                <a:ext cx="11016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436360" y="3511080"/>
                <a:ext cx="7272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459040" y="3529440"/>
                <a:ext cx="2484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5577120" y="3499200"/>
              <a:ext cx="6768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3" name=""/>
            <p:cNvGraphicFramePr/>
            <p:nvPr/>
          </p:nvGraphicFramePr>
          <p:xfrm>
            <a:off x="4970880" y="3352680"/>
            <a:ext cx="601920" cy="126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2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970880" y="3352680"/>
                      <a:ext cx="60192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5" name=""/>
            <p:cNvGraphicFramePr/>
            <p:nvPr/>
          </p:nvGraphicFramePr>
          <p:xfrm>
            <a:off x="5622120" y="3356280"/>
            <a:ext cx="601920" cy="126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92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22120" y="3356280"/>
                      <a:ext cx="60192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27" name=""/>
          <p:cNvGrpSpPr/>
          <p:nvPr/>
        </p:nvGrpSpPr>
        <p:grpSpPr>
          <a:xfrm>
            <a:off x="4800600" y="2590920"/>
            <a:ext cx="1523520" cy="228600"/>
            <a:chOff x="4800600" y="2590920"/>
            <a:chExt cx="1523520" cy="228600"/>
          </a:xfrm>
        </p:grpSpPr>
        <p:pic>
          <p:nvPicPr>
            <p:cNvPr id="928" name="" descr=""/>
            <p:cNvPicPr/>
            <p:nvPr/>
          </p:nvPicPr>
          <p:blipFill>
            <a:blip r:embed="rId19"/>
            <a:stretch/>
          </p:blipFill>
          <p:spPr>
            <a:xfrm>
              <a:off x="5105520" y="2661120"/>
              <a:ext cx="67320" cy="7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9" name=""/>
            <p:cNvGrpSpPr/>
            <p:nvPr/>
          </p:nvGrpSpPr>
          <p:grpSpPr>
            <a:xfrm>
              <a:off x="5483160" y="2606040"/>
              <a:ext cx="840960" cy="210960"/>
              <a:chOff x="5483160" y="2606040"/>
              <a:chExt cx="840960" cy="210960"/>
            </a:xfrm>
          </p:grpSpPr>
          <p:sp>
            <p:nvSpPr>
              <p:cNvPr id="930" name=""/>
              <p:cNvSpPr/>
              <p:nvPr/>
            </p:nvSpPr>
            <p:spPr>
              <a:xfrm>
                <a:off x="5542200" y="2722320"/>
                <a:ext cx="41868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5990760" y="2620800"/>
                <a:ext cx="40320" cy="115560"/>
                <a:chOff x="5990760" y="2620800"/>
                <a:chExt cx="40320" cy="115560"/>
              </a:xfrm>
            </p:grpSpPr>
            <p:grpSp>
              <p:nvGrpSpPr>
                <p:cNvPr id="932" name=""/>
                <p:cNvGrpSpPr/>
                <p:nvPr/>
              </p:nvGrpSpPr>
              <p:grpSpPr>
                <a:xfrm>
                  <a:off x="5996520" y="2620800"/>
                  <a:ext cx="34560" cy="115560"/>
                  <a:chOff x="5996520" y="2620800"/>
                  <a:chExt cx="34560" cy="11556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>
                    <a:off x="5996880" y="2643840"/>
                    <a:ext cx="34200" cy="85320"/>
                  </a:xfrm>
                  <a:prstGeom prst="rect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V="1">
                    <a:off x="5996520" y="2620800"/>
                    <a:ext cx="34560" cy="18720"/>
                  </a:xfrm>
                  <a:custGeom>
                    <a:avLst/>
                    <a:gdLst>
                      <a:gd name="textAreaLeft" fmla="*/ 5040 w 34560"/>
                      <a:gd name="textAreaRight" fmla="*/ 29520 w 34560"/>
                      <a:gd name="textAreaTop" fmla="*/ 2520 h 18720"/>
                      <a:gd name="textAreaBottom" fmla="*/ 16200 h 1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01" y="21600"/>
                        </a:lnTo>
                        <a:lnTo>
                          <a:pt x="2699" y="21600"/>
                        </a:lnTo>
                        <a:close/>
                      </a:path>
                    </a:pathLst>
                  </a:cu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6002280" y="2620800"/>
                    <a:ext cx="27360" cy="115560"/>
                    <a:chOff x="6002280" y="2620800"/>
                    <a:chExt cx="27360" cy="11556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6004800" y="2732400"/>
                      <a:ext cx="2052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6008760" y="2631600"/>
                      <a:ext cx="11160" cy="3924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6005520" y="2674080"/>
                      <a:ext cx="17280" cy="5580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6008760" y="2710800"/>
                      <a:ext cx="20880" cy="3960"/>
                    </a:xfrm>
                    <a:prstGeom prst="rect">
                      <a:avLst/>
                    </a:prstGeom>
                    <a:solidFill>
                      <a:srgbClr val="7f7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6022800" y="2665080"/>
                      <a:ext cx="0" cy="66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flipH="1" flipV="1" rot="10800000">
                      <a:off x="6002280" y="2620800"/>
                      <a:ext cx="23760" cy="15120"/>
                    </a:xfrm>
                    <a:custGeom>
                      <a:avLst/>
                      <a:gdLst>
                        <a:gd name="textAreaLeft" fmla="*/ 4680 w 23760"/>
                        <a:gd name="textAreaRight" fmla="*/ 19080 w 23760"/>
                        <a:gd name="textAreaTop" fmla="*/ 2880 h 15120"/>
                        <a:gd name="textAreaBottom" fmla="*/ 12240 h 15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692" y="21600"/>
                          </a:lnTo>
                          <a:lnTo>
                            <a:pt x="4908" y="2160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005520" y="2631960"/>
                      <a:ext cx="18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3" name=""/>
                  <p:cNvSpPr/>
                  <p:nvPr/>
                </p:nvSpPr>
                <p:spPr>
                  <a:xfrm>
                    <a:off x="6001560" y="264168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025320" y="2641680"/>
                    <a:ext cx="0" cy="2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5" name=""/>
                <p:cNvSpPr/>
                <p:nvPr/>
              </p:nvSpPr>
              <p:spPr>
                <a:xfrm>
                  <a:off x="5990760" y="2682720"/>
                  <a:ext cx="4680" cy="464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6059160" y="2606040"/>
                <a:ext cx="92160" cy="89640"/>
                <a:chOff x="6059160" y="2606040"/>
                <a:chExt cx="92160" cy="896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6059160" y="260604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075360" y="262044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094800" y="264024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6123600" y="2723400"/>
                <a:ext cx="93240" cy="4032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046920" y="266184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63480" y="2661840"/>
                <a:ext cx="9000" cy="24840"/>
              </a:xfrm>
              <a:custGeom>
                <a:avLst/>
                <a:gdLst/>
                <a:ahLst/>
                <a:rect l="l" t="t" r="r" b="b"/>
                <a:pathLst>
                  <a:path w="17" h="49">
                    <a:moveTo>
                      <a:pt x="16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093720" y="2653920"/>
                <a:ext cx="74160" cy="6696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"/>
              <p:cNvGrpSpPr/>
              <p:nvPr/>
            </p:nvGrpSpPr>
            <p:grpSpPr>
              <a:xfrm>
                <a:off x="6059520" y="2618280"/>
                <a:ext cx="59040" cy="7920"/>
                <a:chOff x="6059520" y="2618280"/>
                <a:chExt cx="59040" cy="79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6059520" y="262620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059520" y="2618280"/>
                  <a:ext cx="59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"/>
              <p:cNvSpPr/>
              <p:nvPr/>
            </p:nvSpPr>
            <p:spPr>
              <a:xfrm>
                <a:off x="5514840" y="2757240"/>
                <a:ext cx="45360" cy="11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483160" y="2733840"/>
                <a:ext cx="5562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069600" y="2642400"/>
                <a:ext cx="23400" cy="75600"/>
              </a:xfrm>
              <a:custGeom>
                <a:avLst/>
                <a:gdLst/>
                <a:ahLst/>
                <a:rect l="l" t="t" r="r" b="b"/>
                <a:pathLst>
                  <a:path w="44" h="148">
                    <a:moveTo>
                      <a:pt x="43" y="0"/>
                    </a:moveTo>
                    <a:lnTo>
                      <a:pt x="43" y="147"/>
                    </a:lnTo>
                    <a:lnTo>
                      <a:pt x="17" y="147"/>
                    </a:lnTo>
                    <a:lnTo>
                      <a:pt x="17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093720" y="2617560"/>
                <a:ext cx="73440" cy="3348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045120" y="2673000"/>
                <a:ext cx="31320" cy="4752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86720" y="2718720"/>
                <a:ext cx="249120" cy="24480"/>
              </a:xfrm>
              <a:prstGeom prst="rect">
                <a:avLst/>
              </a:prstGeom>
              <a:solidFill>
                <a:srgbClr val="47474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046920" y="262980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905440" y="2742840"/>
                <a:ext cx="231480" cy="23400"/>
              </a:xfrm>
              <a:custGeom>
                <a:avLst/>
                <a:gdLst/>
                <a:ahLst/>
                <a:rect l="l" t="t" r="r" b="b"/>
                <a:pathLst>
                  <a:path w="434" h="46">
                    <a:moveTo>
                      <a:pt x="433" y="0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433" y="45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042960" y="2623320"/>
                <a:ext cx="9000" cy="25920"/>
              </a:xfrm>
              <a:custGeom>
                <a:avLst/>
                <a:gdLst/>
                <a:ahLst/>
                <a:rect l="l" t="t" r="r" b="b"/>
                <a:pathLst>
                  <a:path w="17" h="51">
                    <a:moveTo>
                      <a:pt x="16" y="0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16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6057720" y="2618640"/>
                <a:ext cx="14760" cy="25920"/>
                <a:chOff x="6057720" y="2618640"/>
                <a:chExt cx="14760" cy="259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6057720" y="2630160"/>
                  <a:ext cx="14760" cy="14400"/>
                </a:xfrm>
                <a:prstGeom prst="ellipse">
                  <a:avLst/>
                </a:prstGeom>
                <a:solidFill>
                  <a:srgbClr val="767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062040" y="2618640"/>
                  <a:ext cx="6120" cy="19080"/>
                </a:xfrm>
                <a:prstGeom prst="rect">
                  <a:avLst/>
                </a:prstGeom>
                <a:solidFill>
                  <a:srgbClr val="3165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9" name=""/>
              <p:cNvSpPr/>
              <p:nvPr/>
            </p:nvSpPr>
            <p:spPr>
              <a:xfrm>
                <a:off x="6094440" y="2672640"/>
                <a:ext cx="73440" cy="21960"/>
              </a:xfrm>
              <a:prstGeom prst="rect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095520" y="2619720"/>
                <a:ext cx="28800" cy="31680"/>
              </a:xfrm>
              <a:prstGeom prst="rect">
                <a:avLst/>
              </a:prstGeom>
              <a:solidFill>
                <a:srgbClr val="3165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86880" y="2718000"/>
                <a:ext cx="36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087960" y="2730600"/>
                <a:ext cx="4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6100920" y="2727360"/>
                <a:ext cx="92160" cy="89640"/>
                <a:chOff x="6100920" y="2727360"/>
                <a:chExt cx="92160" cy="8964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6100920" y="272736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117120" y="274176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136560" y="276156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7" name=""/>
              <p:cNvSpPr/>
              <p:nvPr/>
            </p:nvSpPr>
            <p:spPr>
              <a:xfrm>
                <a:off x="5907600" y="2718720"/>
                <a:ext cx="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909400" y="2737080"/>
                <a:ext cx="17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9" name=""/>
              <p:cNvGrpSpPr/>
              <p:nvPr/>
            </p:nvGrpSpPr>
            <p:grpSpPr>
              <a:xfrm>
                <a:off x="5988600" y="2727360"/>
                <a:ext cx="92160" cy="89640"/>
                <a:chOff x="5988600" y="2727360"/>
                <a:chExt cx="92160" cy="8964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5988600" y="2727360"/>
                  <a:ext cx="92160" cy="896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005160" y="274176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024240" y="276156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5546520" y="2724480"/>
                <a:ext cx="92160" cy="89280"/>
                <a:chOff x="5546520" y="2724480"/>
                <a:chExt cx="92160" cy="892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5546520" y="272448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563080" y="273852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582160" y="275868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6098760" y="2720160"/>
                <a:ext cx="6840" cy="7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276960" y="2757600"/>
                <a:ext cx="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161760" y="2617560"/>
                <a:ext cx="124920" cy="13680"/>
              </a:xfrm>
              <a:custGeom>
                <a:avLst/>
                <a:gdLst/>
                <a:ahLst/>
                <a:rect l="l" t="t" r="r" b="b"/>
                <a:pathLst>
                  <a:path w="234" h="27">
                    <a:moveTo>
                      <a:pt x="3" y="26"/>
                    </a:moveTo>
                    <a:lnTo>
                      <a:pt x="219" y="26"/>
                    </a:lnTo>
                    <a:lnTo>
                      <a:pt x="233" y="0"/>
                    </a:lnTo>
                    <a:lnTo>
                      <a:pt x="0" y="0"/>
                    </a:lnTo>
                    <a:lnTo>
                      <a:pt x="3" y="26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0" name=""/>
              <p:cNvGrpSpPr/>
              <p:nvPr/>
            </p:nvGrpSpPr>
            <p:grpSpPr>
              <a:xfrm>
                <a:off x="6282720" y="2667960"/>
                <a:ext cx="22320" cy="21960"/>
                <a:chOff x="6282720" y="2667960"/>
                <a:chExt cx="22320" cy="21960"/>
              </a:xfrm>
            </p:grpSpPr>
            <p:sp>
              <p:nvSpPr>
                <p:cNvPr id="991" name=""/>
                <p:cNvSpPr/>
                <p:nvPr/>
              </p:nvSpPr>
              <p:spPr>
                <a:xfrm flipH="1">
                  <a:off x="6282720" y="2667960"/>
                  <a:ext cx="15840" cy="1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291000" y="2676240"/>
                  <a:ext cx="14040" cy="1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3" name=""/>
              <p:cNvSpPr/>
              <p:nvPr/>
            </p:nvSpPr>
            <p:spPr>
              <a:xfrm>
                <a:off x="6164280" y="2630880"/>
                <a:ext cx="159840" cy="129960"/>
              </a:xfrm>
              <a:custGeom>
                <a:avLst/>
                <a:gdLst/>
                <a:ahLst/>
                <a:rect l="l" t="t" r="r" b="b"/>
                <a:pathLst>
                  <a:path w="300" h="254">
                    <a:moveTo>
                      <a:pt x="0" y="0"/>
                    </a:moveTo>
                    <a:lnTo>
                      <a:pt x="0" y="18"/>
                    </a:lnTo>
                    <a:lnTo>
                      <a:pt x="0" y="168"/>
                    </a:lnTo>
                    <a:lnTo>
                      <a:pt x="85" y="251"/>
                    </a:lnTo>
                    <a:lnTo>
                      <a:pt x="204" y="253"/>
                    </a:lnTo>
                    <a:lnTo>
                      <a:pt x="299" y="159"/>
                    </a:lnTo>
                    <a:lnTo>
                      <a:pt x="299" y="92"/>
                    </a:lnTo>
                    <a:lnTo>
                      <a:pt x="86" y="90"/>
                    </a:lnTo>
                    <a:lnTo>
                      <a:pt x="86" y="21"/>
                    </a:lnTo>
                    <a:lnTo>
                      <a:pt x="189" y="21"/>
                    </a:lnTo>
                    <a:lnTo>
                      <a:pt x="189" y="87"/>
                    </a:lnTo>
                    <a:lnTo>
                      <a:pt x="203" y="87"/>
                    </a:lnTo>
                    <a:lnTo>
                      <a:pt x="203" y="21"/>
                    </a:lnTo>
                    <a:lnTo>
                      <a:pt x="224" y="21"/>
                    </a:lnTo>
                    <a:lnTo>
                      <a:pt x="281" y="85"/>
                    </a:lnTo>
                    <a:lnTo>
                      <a:pt x="291" y="85"/>
                    </a:lnTo>
                    <a:lnTo>
                      <a:pt x="2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67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312960" y="2677680"/>
                <a:ext cx="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318000" y="2677680"/>
                <a:ext cx="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198120" y="263088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191640" y="263088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170760" y="2630880"/>
                <a:ext cx="0" cy="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206040" y="2755440"/>
                <a:ext cx="7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230520" y="2762640"/>
                <a:ext cx="16200" cy="2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230520" y="2775960"/>
                <a:ext cx="1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"/>
              <p:cNvGrpSpPr/>
              <p:nvPr/>
            </p:nvGrpSpPr>
            <p:grpSpPr>
              <a:xfrm>
                <a:off x="5652360" y="2724480"/>
                <a:ext cx="92160" cy="89280"/>
                <a:chOff x="5652360" y="2724480"/>
                <a:chExt cx="92160" cy="8928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5652360" y="2724480"/>
                  <a:ext cx="92160" cy="892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68920" y="2738520"/>
                  <a:ext cx="60840" cy="608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88000" y="2758680"/>
                  <a:ext cx="20520" cy="2088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5771160" y="2718000"/>
                <a:ext cx="169200" cy="58680"/>
                <a:chOff x="5771160" y="2718000"/>
                <a:chExt cx="169200" cy="5868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5895000" y="2754000"/>
                  <a:ext cx="4536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895000" y="2728440"/>
                  <a:ext cx="45360" cy="1908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771160" y="2721240"/>
                  <a:ext cx="99360" cy="48960"/>
                </a:xfrm>
                <a:custGeom>
                  <a:avLst/>
                  <a:gdLst/>
                  <a:ahLst/>
                  <a:rect l="l" t="t" r="r" b="b"/>
                  <a:pathLst>
                    <a:path w="186" h="96">
                      <a:moveTo>
                        <a:pt x="185" y="0"/>
                      </a:moveTo>
                      <a:lnTo>
                        <a:pt x="0" y="0"/>
                      </a:lnTo>
                      <a:lnTo>
                        <a:pt x="0" y="95"/>
                      </a:lnTo>
                      <a:lnTo>
                        <a:pt x="185" y="95"/>
                      </a:lnTo>
                      <a:lnTo>
                        <a:pt x="185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803560" y="271800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772240" y="276876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859000" y="2768760"/>
                  <a:ext cx="1044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781600" y="272196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787000" y="272196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853600" y="272196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859000" y="272196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834520" y="2734200"/>
                  <a:ext cx="1260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8" name=""/>
              <p:cNvSpPr/>
              <p:nvPr/>
            </p:nvSpPr>
            <p:spPr>
              <a:xfrm>
                <a:off x="6133680" y="2622960"/>
                <a:ext cx="20520" cy="20880"/>
              </a:xfrm>
              <a:prstGeom prst="ellipse">
                <a:avLst/>
              </a:prstGeom>
              <a:solidFill>
                <a:srgbClr val="767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863240" y="2733480"/>
              <a:ext cx="49860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31200" y="2765880"/>
              <a:ext cx="54000" cy="10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00600" y="2741400"/>
              <a:ext cx="640800" cy="226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297760" y="273096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806000" y="2736000"/>
              <a:ext cx="109440" cy="83520"/>
              <a:chOff x="4806000" y="2736000"/>
              <a:chExt cx="109440" cy="83520"/>
            </a:xfrm>
          </p:grpSpPr>
          <p:sp>
            <p:nvSpPr>
              <p:cNvPr id="1024" name=""/>
              <p:cNvSpPr/>
              <p:nvPr/>
            </p:nvSpPr>
            <p:spPr>
              <a:xfrm>
                <a:off x="4806000" y="273600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825440" y="274932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48480" y="276768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4941360" y="2736000"/>
              <a:ext cx="109440" cy="83520"/>
              <a:chOff x="4941360" y="2736000"/>
              <a:chExt cx="109440" cy="83520"/>
            </a:xfrm>
          </p:grpSpPr>
          <p:sp>
            <p:nvSpPr>
              <p:cNvPr id="1028" name=""/>
              <p:cNvSpPr/>
              <p:nvPr/>
            </p:nvSpPr>
            <p:spPr>
              <a:xfrm>
                <a:off x="4941360" y="2736000"/>
                <a:ext cx="10944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960800" y="2749320"/>
                <a:ext cx="7200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83840" y="2767680"/>
                <a:ext cx="2448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5136120" y="2729520"/>
              <a:ext cx="201600" cy="55080"/>
              <a:chOff x="5136120" y="2729520"/>
              <a:chExt cx="201600" cy="55080"/>
            </a:xfrm>
          </p:grpSpPr>
          <p:sp>
            <p:nvSpPr>
              <p:cNvPr id="1032" name=""/>
              <p:cNvSpPr/>
              <p:nvPr/>
            </p:nvSpPr>
            <p:spPr>
              <a:xfrm>
                <a:off x="5283720" y="2763000"/>
                <a:ext cx="54000" cy="111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283720" y="2739240"/>
                <a:ext cx="54000" cy="180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36120" y="2732760"/>
                <a:ext cx="118080" cy="45360"/>
              </a:xfrm>
              <a:custGeom>
                <a:avLst/>
                <a:gdLst/>
                <a:ahLst/>
                <a:rect l="l" t="t" r="r" b="b"/>
                <a:pathLst>
                  <a:path w="186" h="96">
                    <a:moveTo>
                      <a:pt x="185" y="0"/>
                    </a:moveTo>
                    <a:lnTo>
                      <a:pt x="0" y="0"/>
                    </a:lnTo>
                    <a:lnTo>
                      <a:pt x="0" y="95"/>
                    </a:lnTo>
                    <a:lnTo>
                      <a:pt x="185" y="95"/>
                    </a:lnTo>
                    <a:lnTo>
                      <a:pt x="185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174640" y="272952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137200" y="277704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40880" y="2777040"/>
                <a:ext cx="1260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148720" y="273312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154840" y="273312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34400" y="273312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40880" y="273312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211720" y="2744640"/>
                <a:ext cx="1512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4815720" y="2607840"/>
              <a:ext cx="631800" cy="119520"/>
              <a:chOff x="4815720" y="2607840"/>
              <a:chExt cx="631800" cy="119520"/>
            </a:xfrm>
          </p:grpSpPr>
          <p:grpSp>
            <p:nvGrpSpPr>
              <p:cNvPr id="1044" name=""/>
              <p:cNvGrpSpPr/>
              <p:nvPr/>
            </p:nvGrpSpPr>
            <p:grpSpPr>
              <a:xfrm>
                <a:off x="4817880" y="2607840"/>
                <a:ext cx="629640" cy="115560"/>
                <a:chOff x="4817880" y="2607840"/>
                <a:chExt cx="629640" cy="115560"/>
              </a:xfrm>
            </p:grpSpPr>
            <p:grpSp>
              <p:nvGrpSpPr>
                <p:cNvPr id="1045" name=""/>
                <p:cNvGrpSpPr/>
                <p:nvPr/>
              </p:nvGrpSpPr>
              <p:grpSpPr>
                <a:xfrm>
                  <a:off x="5377680" y="2607840"/>
                  <a:ext cx="69840" cy="113760"/>
                  <a:chOff x="5377680" y="2607840"/>
                  <a:chExt cx="69840" cy="1137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rot="360000">
                    <a:off x="5398200" y="2610000"/>
                    <a:ext cx="47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>
                    <a:off x="5377680" y="2627640"/>
                    <a:ext cx="20160" cy="9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H="1">
                    <a:off x="5382000" y="2627640"/>
                    <a:ext cx="1872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rot="360000">
                    <a:off x="5400360" y="2611800"/>
                    <a:ext cx="4068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9425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9425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0" name=""/>
                <p:cNvSpPr/>
                <p:nvPr/>
              </p:nvSpPr>
              <p:spPr>
                <a:xfrm flipV="1">
                  <a:off x="4817880" y="2719080"/>
                  <a:ext cx="574560" cy="3960"/>
                </a:xfrm>
                <a:custGeom>
                  <a:avLst/>
                  <a:gdLst>
                    <a:gd name="textAreaLeft" fmla="*/ 89640 w 574560"/>
                    <a:gd name="textAreaRight" fmla="*/ 484920 w 57456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964040" y="2718720"/>
                  <a:ext cx="41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971600" y="2720880"/>
                  <a:ext cx="41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4815720" y="2611800"/>
                <a:ext cx="629640" cy="115560"/>
                <a:chOff x="4815720" y="2611800"/>
                <a:chExt cx="629640" cy="115560"/>
              </a:xfrm>
            </p:grpSpPr>
            <p:grpSp>
              <p:nvGrpSpPr>
                <p:cNvPr id="1054" name=""/>
                <p:cNvGrpSpPr/>
                <p:nvPr/>
              </p:nvGrpSpPr>
              <p:grpSpPr>
                <a:xfrm>
                  <a:off x="5376240" y="2611800"/>
                  <a:ext cx="69120" cy="114480"/>
                  <a:chOff x="5376240" y="2611800"/>
                  <a:chExt cx="69120" cy="11448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 rot="360000">
                    <a:off x="5396040" y="2613960"/>
                    <a:ext cx="47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68"/>
                        </a:moveTo>
                        <a:arcTo wR="10800" hR="10800" stAng="-10726081" swAng="523659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68"/>
                        </a:moveTo>
                        <a:arcTo wR="10800" hR="10800" stAng="-10726081" swAng="5236597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H="1">
                    <a:off x="5376240" y="2631960"/>
                    <a:ext cx="20160" cy="9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H="1">
                    <a:off x="5379840" y="2631960"/>
                    <a:ext cx="19440" cy="9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rot="360000">
                    <a:off x="5399280" y="2616840"/>
                    <a:ext cx="399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571"/>
                        </a:moveTo>
                        <a:arcTo wR="10800" hR="10800" stAng="-10727201" swAng="522258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571"/>
                        </a:moveTo>
                        <a:arcTo wR="10800" hR="10800" stAng="-10727201" swAng="522258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"/>
                <p:cNvSpPr/>
                <p:nvPr/>
              </p:nvSpPr>
              <p:spPr>
                <a:xfrm flipV="1">
                  <a:off x="4815720" y="2723040"/>
                  <a:ext cx="575280" cy="3960"/>
                </a:xfrm>
                <a:custGeom>
                  <a:avLst/>
                  <a:gdLst>
                    <a:gd name="textAreaLeft" fmla="*/ 89640 w 575280"/>
                    <a:gd name="textAreaRight" fmla="*/ 485640 w 575280"/>
                    <a:gd name="textAreaTop" fmla="*/ 360 h 3960"/>
                    <a:gd name="textAreaBottom" fmla="*/ 3600 h 3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81" y="21600"/>
                      </a:lnTo>
                      <a:lnTo>
                        <a:pt x="2919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961880" y="2723040"/>
                  <a:ext cx="41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969440" y="2725920"/>
                  <a:ext cx="41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2" name=""/>
              <p:cNvSpPr/>
              <p:nvPr/>
            </p:nvSpPr>
            <p:spPr>
              <a:xfrm flipH="1">
                <a:off x="4822560" y="2727360"/>
                <a:ext cx="48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5264280" y="2736000"/>
              <a:ext cx="110160" cy="83520"/>
              <a:chOff x="5264280" y="2736000"/>
              <a:chExt cx="110160" cy="83520"/>
            </a:xfrm>
          </p:grpSpPr>
          <p:sp>
            <p:nvSpPr>
              <p:cNvPr id="1064" name=""/>
              <p:cNvSpPr/>
              <p:nvPr/>
            </p:nvSpPr>
            <p:spPr>
              <a:xfrm>
                <a:off x="5264280" y="2736000"/>
                <a:ext cx="110160" cy="83520"/>
              </a:xfrm>
              <a:prstGeom prst="ellipse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284080" y="2749320"/>
                <a:ext cx="72720" cy="56880"/>
              </a:xfrm>
              <a:prstGeom prst="ellipse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06760" y="2767680"/>
                <a:ext cx="24840" cy="194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5424840" y="2737440"/>
              <a:ext cx="6768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8" name=""/>
            <p:cNvGraphicFramePr/>
            <p:nvPr/>
          </p:nvGraphicFramePr>
          <p:xfrm>
            <a:off x="4818600" y="2590920"/>
            <a:ext cx="601560" cy="126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06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818600" y="2590920"/>
                      <a:ext cx="60156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"/>
            <p:cNvGraphicFramePr/>
            <p:nvPr/>
          </p:nvGraphicFramePr>
          <p:xfrm>
            <a:off x="5469840" y="2594520"/>
            <a:ext cx="601560" cy="1260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07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469840" y="2594520"/>
                      <a:ext cx="601560" cy="1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2" name=""/>
          <p:cNvSpPr/>
          <p:nvPr/>
        </p:nvSpPr>
        <p:spPr>
          <a:xfrm>
            <a:off x="1676520" y="342900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238880" y="41911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003320" y="37465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594560" y="4660920"/>
            <a:ext cx="6094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8600" y="28195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380880" y="2895480"/>
            <a:ext cx="228600" cy="152640"/>
            <a:chOff x="380880" y="2895480"/>
            <a:chExt cx="228600" cy="152640"/>
          </a:xfrm>
        </p:grpSpPr>
        <p:sp>
          <p:nvSpPr>
            <p:cNvPr id="1078" name=""/>
            <p:cNvSpPr/>
            <p:nvPr/>
          </p:nvSpPr>
          <p:spPr>
            <a:xfrm>
              <a:off x="380880" y="2895480"/>
              <a:ext cx="228600" cy="15264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95360" y="2895480"/>
              <a:ext cx="0" cy="1526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0880" y="296892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6600" y="2912400"/>
              <a:ext cx="137160" cy="1188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11120" y="2920680"/>
              <a:ext cx="159840" cy="1018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1168560" y="3797280"/>
            <a:ext cx="228600" cy="152280"/>
            <a:chOff x="1168560" y="3797280"/>
            <a:chExt cx="228600" cy="152280"/>
          </a:xfrm>
        </p:grpSpPr>
        <p:sp>
          <p:nvSpPr>
            <p:cNvPr id="1084" name=""/>
            <p:cNvSpPr/>
            <p:nvPr/>
          </p:nvSpPr>
          <p:spPr>
            <a:xfrm>
              <a:off x="1168560" y="3797280"/>
              <a:ext cx="228600" cy="15228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283040" y="3797280"/>
              <a:ext cx="0" cy="1522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68560" y="387072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214280" y="3814200"/>
              <a:ext cx="137160" cy="1184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1198800" y="3822480"/>
              <a:ext cx="159840" cy="1015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828800" y="3505320"/>
            <a:ext cx="228600" cy="152280"/>
            <a:chOff x="1828800" y="3505320"/>
            <a:chExt cx="228600" cy="152280"/>
          </a:xfrm>
        </p:grpSpPr>
        <p:sp>
          <p:nvSpPr>
            <p:cNvPr id="1090" name=""/>
            <p:cNvSpPr/>
            <p:nvPr/>
          </p:nvSpPr>
          <p:spPr>
            <a:xfrm>
              <a:off x="1828800" y="3505320"/>
              <a:ext cx="228600" cy="15228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43280" y="3505320"/>
              <a:ext cx="0" cy="1522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828800" y="357876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874520" y="3522240"/>
              <a:ext cx="137160" cy="1184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1859040" y="3530520"/>
              <a:ext cx="159840" cy="1015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7772400" y="4724280"/>
            <a:ext cx="228600" cy="152640"/>
            <a:chOff x="7772400" y="4724280"/>
            <a:chExt cx="228600" cy="152640"/>
          </a:xfrm>
        </p:grpSpPr>
        <p:sp>
          <p:nvSpPr>
            <p:cNvPr id="1096" name=""/>
            <p:cNvSpPr/>
            <p:nvPr/>
          </p:nvSpPr>
          <p:spPr>
            <a:xfrm>
              <a:off x="7772400" y="4724280"/>
              <a:ext cx="228600" cy="15264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86880" y="4724280"/>
              <a:ext cx="0" cy="1526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772400" y="479772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818120" y="4741200"/>
              <a:ext cx="137160" cy="1188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802640" y="4749480"/>
              <a:ext cx="159840" cy="1018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7404120" y="4241880"/>
            <a:ext cx="228600" cy="152280"/>
            <a:chOff x="7404120" y="4241880"/>
            <a:chExt cx="228600" cy="152280"/>
          </a:xfrm>
        </p:grpSpPr>
        <p:sp>
          <p:nvSpPr>
            <p:cNvPr id="1102" name=""/>
            <p:cNvSpPr/>
            <p:nvPr/>
          </p:nvSpPr>
          <p:spPr>
            <a:xfrm>
              <a:off x="7404120" y="4241880"/>
              <a:ext cx="228600" cy="15228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18600" y="4241880"/>
              <a:ext cx="0" cy="1522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404120" y="4315320"/>
              <a:ext cx="228600" cy="111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449840" y="4258800"/>
              <a:ext cx="137160" cy="1184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7434360" y="4267080"/>
              <a:ext cx="159840" cy="1015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252720" y="29923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542000" y="482112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/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687320" y="3602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287480" y="43513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68480" y="39290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943280" y="334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50564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87392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29528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20560" y="27306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305920" y="29718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534520" y="2895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324480" y="56386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5530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48006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04812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692760" y="5765760"/>
            <a:ext cx="381240" cy="321840"/>
            <a:chOff x="6692760" y="5765760"/>
            <a:chExt cx="381240" cy="321840"/>
          </a:xfrm>
        </p:grpSpPr>
        <p:sp>
          <p:nvSpPr>
            <p:cNvPr id="1124" name=""/>
            <p:cNvSpPr/>
            <p:nvPr/>
          </p:nvSpPr>
          <p:spPr>
            <a:xfrm>
              <a:off x="6692760" y="5829120"/>
              <a:ext cx="381240" cy="258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6801840" y="5920920"/>
              <a:ext cx="163080" cy="103320"/>
              <a:chOff x="6801840" y="5920920"/>
              <a:chExt cx="163080" cy="103320"/>
            </a:xfrm>
          </p:grpSpPr>
          <p:sp>
            <p:nvSpPr>
              <p:cNvPr id="1126" name=""/>
              <p:cNvSpPr/>
              <p:nvPr/>
            </p:nvSpPr>
            <p:spPr>
              <a:xfrm>
                <a:off x="6801840" y="5920920"/>
                <a:ext cx="163080" cy="103320"/>
              </a:xfrm>
              <a:prstGeom prst="ellipse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883560" y="5920920"/>
                <a:ext cx="0" cy="1033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801840" y="5970600"/>
                <a:ext cx="163080" cy="7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834240" y="5932440"/>
                <a:ext cx="97920" cy="802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6823080" y="5938200"/>
                <a:ext cx="114120" cy="687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6771960" y="5765760"/>
              <a:ext cx="217440" cy="51480"/>
              <a:chOff x="6771960" y="5765760"/>
              <a:chExt cx="217440" cy="51480"/>
            </a:xfrm>
          </p:grpSpPr>
          <p:sp>
            <p:nvSpPr>
              <p:cNvPr id="1132" name=""/>
              <p:cNvSpPr/>
              <p:nvPr/>
            </p:nvSpPr>
            <p:spPr>
              <a:xfrm>
                <a:off x="6771960" y="576576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53680" y="576576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935040" y="576576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2514600" y="4952880"/>
            <a:ext cx="380880" cy="322200"/>
            <a:chOff x="2514600" y="4952880"/>
            <a:chExt cx="380880" cy="322200"/>
          </a:xfrm>
        </p:grpSpPr>
        <p:sp>
          <p:nvSpPr>
            <p:cNvPr id="1136" name=""/>
            <p:cNvSpPr/>
            <p:nvPr/>
          </p:nvSpPr>
          <p:spPr>
            <a:xfrm>
              <a:off x="2514600" y="5016240"/>
              <a:ext cx="38088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2623320" y="5108040"/>
              <a:ext cx="163080" cy="103320"/>
              <a:chOff x="2623320" y="5108040"/>
              <a:chExt cx="163080" cy="103320"/>
            </a:xfrm>
          </p:grpSpPr>
          <p:sp>
            <p:nvSpPr>
              <p:cNvPr id="1138" name=""/>
              <p:cNvSpPr/>
              <p:nvPr/>
            </p:nvSpPr>
            <p:spPr>
              <a:xfrm>
                <a:off x="2623320" y="5108040"/>
                <a:ext cx="163080" cy="103320"/>
              </a:xfrm>
              <a:prstGeom prst="ellipse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705040" y="5108040"/>
                <a:ext cx="0" cy="1033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623320" y="5157720"/>
                <a:ext cx="163080" cy="7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655720" y="5119560"/>
                <a:ext cx="97920" cy="802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2644560" y="5125320"/>
                <a:ext cx="114120" cy="687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2593800" y="4952880"/>
              <a:ext cx="217440" cy="51480"/>
              <a:chOff x="2593800" y="4952880"/>
              <a:chExt cx="217440" cy="51480"/>
            </a:xfrm>
          </p:grpSpPr>
          <p:sp>
            <p:nvSpPr>
              <p:cNvPr id="1144" name=""/>
              <p:cNvSpPr/>
              <p:nvPr/>
            </p:nvSpPr>
            <p:spPr>
              <a:xfrm>
                <a:off x="2593800" y="495288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675160" y="495288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756880" y="4952880"/>
                <a:ext cx="5436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7" name=""/>
          <p:cNvSpPr/>
          <p:nvPr/>
        </p:nvSpPr>
        <p:spPr>
          <a:xfrm>
            <a:off x="2038320" y="22860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844560" y="2594520"/>
            <a:ext cx="519120" cy="276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57200" y="914400"/>
            <a:ext cx="80773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None of the FMs identify exactly what transportation units will be found at the corps and division area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til FM 55-30 is replaced with FMI 4-01.40, we’re still using Medium Truck Companies (POL, PLS, Cargo), LT/MED, HET, and CTCs as the primary corps/division trans units on the battlefie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2670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I 4-90.1  ELOs A&amp;B  Slide#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33520" y="2852640"/>
            <a:ext cx="8076960" cy="231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You plan to support offensive operations by doing all of the foll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as much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Reduce the vulnerability of “thin skinned”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Use smaller resupply vehicles such as HEMTT/PLS instead of tractor-trai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the use of preplanned and preconfigured push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irlift resupply for units not accessible by surface 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33520" y="5218200"/>
            <a:ext cx="8076960" cy="91692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C.  Use smaller resupply vehicles such as HEMTT/PLS instead of tractor-trai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E:  This technique would be better used to support urban warfar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3352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 C   Slides # 39&amp;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33520" y="990720"/>
            <a:ext cx="815328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1LT Snyder is your unit movement officer.  He has developed a unit convoy plan that takes you down the primary MSR.  Your unit is not clearned for this movement.  1LT Snyder has violated which movement control princi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33520" y="1905120"/>
            <a:ext cx="8153280" cy="36828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Regulated Movements                    ELO B   Slide # 11 Notes Pag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19720" y="24382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ow time for selections to app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4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29:06Z</dcterms:created>
  <dc:creator>moorem2</dc:creator>
  <dc:description/>
  <dc:language>en-US</dc:language>
  <cp:lastModifiedBy>moorem2</cp:lastModifiedBy>
  <dcterms:modified xsi:type="dcterms:W3CDTF">2006-01-25T14:44:43Z</dcterms:modified>
  <cp:revision>91</cp:revision>
  <dc:subject/>
  <dc:title>CHECKS ON LEARNING</dc:title>
</cp:coreProperties>
</file>